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8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7BF-4D46-42F1-AE3E-C7344C70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062-DCD6-4611-8917-E717B7EC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E1A-F9A0-4B20-90AB-C2C04165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54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2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54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2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E88-4BF5-434F-8517-F5EFAF5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87E-FEB9-4665-8678-1CBE6D0D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3E5-094B-4BE4-97A8-6DCDBB8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368-ABE0-4873-AEF5-7763060E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FF6-0BB6-4AD4-B077-28771200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85960" y="140760"/>
            <a:ext cx="6819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FBD-C50B-4019-BDCF-5A85622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FC2-DA85-4609-9C5F-55343DA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C07-62C7-4371-ADE5-B8D2E84B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D9A-0643-41C0-97A5-35E4B1B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10826640" cy="812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94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352520" indent="-271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89396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0080" y="7527600"/>
            <a:ext cx="34275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612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7E9-389B-4999-843B-0303F1CA02A6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Управление Федерального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казначейства 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по Ленинградской област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Актуальные вопросы учета поступлений в бюджетную систему Российской Федерации и их распределение между бюджетами бюджетной системы Российской Федер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~PP21001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Изменения, вносимые в приказ 92н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порядка учета доходов от уплаты акцизов на нефтепроду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валютных счетов ФК в МОУ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ядок отнесения платежей на невыясненные поступления для ГВБ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невыясненных поступлений между У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поступлений, предназначавшихся федеральным учрежд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излишне распределенных сумм в связи с межбюджетной задолж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авление Сведений о поступивших от юридических лиц платеж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 на ОКТ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ряжение о переводе денежных средств в бюджеты плательщ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авление информации из расчетных документов в ГИС ГМ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естр администрируемых платежей ГАД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~PP21017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8360" r="0" b="0"/>
          <a:stretch/>
        </p:blipFill>
        <p:spPr>
          <a:xfrm>
            <a:off x="444600" y="2374920"/>
            <a:ext cx="9361440" cy="3638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платежей, ошибочно зачисленных на счет другого органа Федерального казначейства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(Приложение № </a:t>
            </a: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к Порядку №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~PP21032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4" descr="e-mail"/>
          <p:cNvPicPr/>
          <p:nvPr/>
        </p:nvPicPr>
        <p:blipFill>
          <a:blip r:embed="rId1"/>
          <a:stretch/>
        </p:blipFill>
        <p:spPr>
          <a:xfrm rot="7062000">
            <a:off x="3200400" y="3608280"/>
            <a:ext cx="657360" cy="6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6" descr="папки"/>
          <p:cNvPicPr/>
          <p:nvPr/>
        </p:nvPicPr>
        <p:blipFill>
          <a:blip r:embed="rId2"/>
          <a:stretch/>
        </p:blipFill>
        <p:spPr>
          <a:xfrm>
            <a:off x="8366040" y="4275000"/>
            <a:ext cx="1008000" cy="8794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3"/>
          <p:cNvSpPr/>
          <p:nvPr/>
        </p:nvSpPr>
        <p:spPr>
          <a:xfrm flipH="1" flipV="1" rot="13265400">
            <a:off x="7286760" y="2979360"/>
            <a:ext cx="1728720" cy="514044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1010520 h 5140440"/>
              <a:gd name="textAreaBottom" fmla="*/ 3615840 h 514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Уточнение невыясненных поступлений, зачисляемых в федеральный бюджет, поступивших на счета № 40101 других органов Федерального казначе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AutoShape 61"/>
          <p:cNvGrpSpPr/>
          <p:nvPr/>
        </p:nvGrpSpPr>
        <p:grpSpPr>
          <a:xfrm>
            <a:off x="2603520" y="3441600"/>
            <a:ext cx="1547640" cy="1971360"/>
            <a:chOff x="2603520" y="3441600"/>
            <a:chExt cx="1547640" cy="1971360"/>
          </a:xfrm>
        </p:grpSpPr>
        <p:pic>
          <p:nvPicPr>
            <p:cNvPr id="58" name="AutoShape 61" descr=""/>
            <p:cNvPicPr/>
            <p:nvPr/>
          </p:nvPicPr>
          <p:blipFill>
            <a:blip r:embed="rId4"/>
            <a:stretch/>
          </p:blipFill>
          <p:spPr>
            <a:xfrm>
              <a:off x="2603520" y="3441600"/>
              <a:ext cx="154764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3260400">
              <a:off x="2309040" y="4237920"/>
              <a:ext cx="2013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60"/>
          <p:cNvGrpSpPr/>
          <p:nvPr/>
        </p:nvGrpSpPr>
        <p:grpSpPr>
          <a:xfrm>
            <a:off x="157320" y="1324080"/>
            <a:ext cx="2664720" cy="2158560"/>
            <a:chOff x="157320" y="1324080"/>
            <a:chExt cx="2664720" cy="2158560"/>
          </a:xfrm>
        </p:grpSpPr>
        <p:pic>
          <p:nvPicPr>
            <p:cNvPr id="61" name="Picture 57" descr="Дома в ромбе"/>
            <p:cNvPicPr/>
            <p:nvPr/>
          </p:nvPicPr>
          <p:blipFill>
            <a:blip r:embed="rId5"/>
            <a:stretch/>
          </p:blipFill>
          <p:spPr>
            <a:xfrm>
              <a:off x="157320" y="1324080"/>
              <a:ext cx="815040" cy="8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AutoShape 51"/>
            <p:cNvGrpSpPr/>
            <p:nvPr/>
          </p:nvGrpSpPr>
          <p:grpSpPr>
            <a:xfrm>
              <a:off x="505080" y="2026440"/>
              <a:ext cx="2316960" cy="1456200"/>
              <a:chOff x="505080" y="2026440"/>
              <a:chExt cx="2316960" cy="1456200"/>
            </a:xfrm>
          </p:grpSpPr>
          <p:pic>
            <p:nvPicPr>
              <p:cNvPr id="63" name="AutoShape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080" y="2026440"/>
                <a:ext cx="2316960" cy="14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586440" y="2109240"/>
                <a:ext cx="21538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1081080"/>
                    <a:tab algn="l" pos="2162160"/>
                    <a:tab algn="l" pos="3243240"/>
                    <a:tab algn="l" pos="4324320"/>
                    <a:tab algn="l" pos="5405400"/>
                    <a:tab algn="l" pos="6486480"/>
                    <a:tab algn="l" pos="7567560"/>
                    <a:tab algn="l" pos="8648640"/>
                    <a:tab algn="l" pos="9729720"/>
                    <a:tab algn="l" pos="10810800"/>
                  </a:tabLst>
                </a:pPr>
                <a:r>
                  <a:rPr b="1" lang="ru-RU" sz="21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ор доходов бюджета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Group 59"/>
          <p:cNvGrpSpPr/>
          <p:nvPr/>
        </p:nvGrpSpPr>
        <p:grpSpPr>
          <a:xfrm>
            <a:off x="7574040" y="1108080"/>
            <a:ext cx="2419200" cy="2464200"/>
            <a:chOff x="7574040" y="1108080"/>
            <a:chExt cx="2419200" cy="2464200"/>
          </a:xfrm>
        </p:grpSpPr>
        <p:sp>
          <p:nvSpPr>
            <p:cNvPr id="66" name="AutoShape 53"/>
            <p:cNvSpPr/>
            <p:nvPr/>
          </p:nvSpPr>
          <p:spPr>
            <a:xfrm>
              <a:off x="7574040" y="205200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Picture 55" descr="Дом"/>
            <p:cNvPicPr/>
            <p:nvPr/>
          </p:nvPicPr>
          <p:blipFill>
            <a:blip r:embed="rId7"/>
            <a:stretch/>
          </p:blipFill>
          <p:spPr>
            <a:xfrm>
              <a:off x="8724960" y="1108080"/>
              <a:ext cx="126828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65" descr="папка мои документы"/>
          <p:cNvPicPr/>
          <p:nvPr/>
        </p:nvPicPr>
        <p:blipFill>
          <a:blip r:embed="rId8"/>
          <a:stretch/>
        </p:blipFill>
        <p:spPr>
          <a:xfrm>
            <a:off x="4694400" y="240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7" descr="папка мои документы"/>
          <p:cNvPicPr/>
          <p:nvPr/>
        </p:nvPicPr>
        <p:blipFill>
          <a:blip r:embed="rId9"/>
          <a:stretch/>
        </p:blipFill>
        <p:spPr>
          <a:xfrm>
            <a:off x="8150400" y="4635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2"/>
          <p:cNvSpPr/>
          <p:nvPr/>
        </p:nvSpPr>
        <p:spPr>
          <a:xfrm rot="12952800">
            <a:off x="5213520" y="759960"/>
            <a:ext cx="1512720" cy="48942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962280 h 4894200"/>
              <a:gd name="textAreaBottom" fmla="*/ 3442320 h 48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10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8"/>
          <p:cNvSpPr/>
          <p:nvPr/>
        </p:nvSpPr>
        <p:spPr>
          <a:xfrm>
            <a:off x="949320" y="4059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домление об уточнении вида и принадлежности плате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8"/>
          <p:cNvGrpSpPr/>
          <p:nvPr/>
        </p:nvGrpSpPr>
        <p:grpSpPr>
          <a:xfrm>
            <a:off x="4118040" y="4564080"/>
            <a:ext cx="2311200" cy="2378520"/>
            <a:chOff x="4118040" y="4564080"/>
            <a:chExt cx="2311200" cy="2378520"/>
          </a:xfrm>
        </p:grpSpPr>
        <p:sp>
          <p:nvSpPr>
            <p:cNvPr id="73" name="AutoShape 52"/>
            <p:cNvSpPr/>
            <p:nvPr/>
          </p:nvSpPr>
          <p:spPr>
            <a:xfrm>
              <a:off x="4118040" y="542232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4" descr="Дом2"/>
            <p:cNvPicPr/>
            <p:nvPr/>
          </p:nvPicPr>
          <p:blipFill>
            <a:blip r:embed="rId11"/>
            <a:stretch/>
          </p:blipFill>
          <p:spPr>
            <a:xfrm>
              <a:off x="5060880" y="4564080"/>
              <a:ext cx="1368360" cy="97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 Box 69"/>
          <p:cNvSpPr/>
          <p:nvPr/>
        </p:nvSpPr>
        <p:spPr>
          <a:xfrm>
            <a:off x="3036960" y="1324080"/>
            <a:ext cx="302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8292960" y="6004080"/>
            <a:ext cx="253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К + информация из расчетных докумен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~PP31173.WAV" descr=""/>
          <p:cNvPicPr/>
          <p:nvPr/>
        </p:nvPicPr>
        <p:blipFill>
          <a:blip r:embed="rId1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179360"/>
            <a:ext cx="7358040" cy="657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Указание в распоряжении  переводе денежных средств в бюджетную систему кодов ОКТМО и идентифи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8292960" y="3700440"/>
            <a:ext cx="2376720" cy="2087640"/>
          </a:xfrm>
          <a:prstGeom prst="wedgeRectCallout">
            <a:avLst>
              <a:gd name="adj1" fmla="val -207819"/>
              <a:gd name="adj2" fmla="val 6896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31.03.2014 в реквизите «Код» будет указываться уникальный идентификатор начисления (УИ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8726400" y="1755720"/>
            <a:ext cx="1727280" cy="863640"/>
          </a:xfrm>
          <a:prstGeom prst="wedgeRoundRectCallout">
            <a:avLst>
              <a:gd name="adj1" fmla="val -417787"/>
              <a:gd name="adj2" fmla="val 479962"/>
              <a:gd name="adj3" fmla="val 16667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01.01.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ТМ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8150400" y="6435720"/>
            <a:ext cx="2376360" cy="898560"/>
          </a:xfrm>
          <a:prstGeom prst="wedgeRectCallout">
            <a:avLst>
              <a:gd name="adj1" fmla="val -379027"/>
              <a:gd name="adj2" fmla="val -37856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31.03.2014 УИН указывается в назначении платеж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~PP21188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администрируемых платежей (приложение № 8 к Порядку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1" descr=""/>
          <p:cNvPicPr/>
          <p:nvPr/>
        </p:nvPicPr>
        <p:blipFill>
          <a:blip r:embed="rId1"/>
          <a:srcRect l="0" t="5326" r="0" b="0"/>
          <a:stretch/>
        </p:blipFill>
        <p:spPr>
          <a:xfrm>
            <a:off x="299880" y="2279520"/>
            <a:ext cx="10082520" cy="4214880"/>
          </a:xfrm>
          <a:prstGeom prst="rect">
            <a:avLst/>
          </a:prstGeom>
          <a:ln w="0">
            <a:noFill/>
          </a:ln>
        </p:spPr>
      </p:pic>
      <p:pic>
        <p:nvPicPr>
          <p:cNvPr id="86" name="~PP31188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Управление Федерального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казначейства 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по Ленинградской област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ctr">
              <a:spcBef>
                <a:spcPts val="97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одготовке слайдов были использованы материалы, размещенные на сайте Федерального казначей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~PP21001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2101</cp:lastModifiedBy>
  <dcterms:modified xsi:type="dcterms:W3CDTF">2013-12-19T13:23:07Z</dcterms:modified>
  <cp:revision>185</cp:revision>
  <dc:subject/>
  <dc:title>Слайд 1</dc:title>
</cp:coreProperties>
</file>