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Click to move the slide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92CDDD1-403D-4306-A92C-56A00A09BE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65099AB-1EA9-4A2B-AB12-3E5704CA1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25B5C25-00A8-4777-AC04-747BDA909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7DDD324-EA11-489F-8A2D-B1607E0B7DE1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A29CFE-3D7D-4015-BFCB-E412E857A926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3EE3405-BD19-4EB4-8ECC-F39B0AB824AC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57CC0C4-A75A-4549-8B72-E9DB636F70CE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BA9C959-B4FA-4A16-86D4-DCCB0028179A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0FD-CC65-41B3-8932-15D54017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A64-AF8B-4413-97B0-E939C9F4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40E-5482-441F-A68D-5C54C0A7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F82-DD98-4D6F-B50D-A190E956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B857-C34B-4E82-ADD9-32203264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0D3D-9E82-4953-89E7-9798239A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7975-FA82-4BEE-8EEE-77ED47EB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5E06-42BE-4640-B1BC-59D31D2F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4C08-01B3-47C7-8A38-C74D735D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18CB-CDA5-4A96-BA9E-4B03E769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2041-5EB1-424B-9015-F5EA7AB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1E3-3D13-4D3B-9CB0-D39905BD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62AC-06DE-4358-A0F9-8AC00789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4CAE-EC70-4DAB-83EB-0CEBC6F0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E511-3329-44E9-9135-B6BC0706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DC8F-90A7-48B4-A992-1F1DA81C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29FC-54F5-4C36-A694-0198F4CC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F99-0CB3-4437-A478-C6E356E7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0DC-0ED0-40D5-BA1A-DABC7C93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990-EBFC-4AE6-9C42-1246EB3A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2C3-5205-410D-B746-97605868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938-5DE9-42A6-A5DC-16678411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23A-3DD9-4FA4-978C-7B4E429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FE3-42C8-4043-BDA7-0B36F37C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15CD-991D-4725-BD9B-A3170CF590A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EEF1-9664-4CD3-85A8-070B552ED4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7350-3BCB-4C01-94F3-3692870693F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85F8-D3F8-4B4E-B847-118FDAB13F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1"/>
          <p:cNvSpPr/>
          <p:nvPr/>
        </p:nvSpPr>
        <p:spPr>
          <a:xfrm>
            <a:off x="3924360" y="4941720"/>
            <a:ext cx="50752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Times New Roman"/>
              </a:rPr>
              <a:t>Заместитель руководител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Times New Roman"/>
              </a:rPr>
              <a:t>УФК по Ленинградской обла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Times New Roman"/>
              </a:rPr>
              <a:t>Вассель Т. 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Times New Roman"/>
              </a:rPr>
              <a:t>17 декабря 2013г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Times New Roman"/>
              </a:rPr>
              <a:t>(с использованием материалов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Times New Roman"/>
              </a:rPr>
              <a:t>совещаний Федерального казначейства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8"/>
          <p:cNvSpPr/>
          <p:nvPr/>
        </p:nvSpPr>
        <p:spPr>
          <a:xfrm>
            <a:off x="250920" y="692280"/>
            <a:ext cx="85690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Times New Roman"/>
              </a:rPr>
              <a:t>ОБЗОР ОСНОВНЫХ ИЗМЕНЕНИ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Times New Roman"/>
              </a:rPr>
              <a:t>НОРМАТИВНЫХ ПРАВОВЫХ АКТО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Times New Roman"/>
              </a:rPr>
              <a:t>МИНФИНА РОССИИ И ФЕДЕРАЛЬНОГО КАЗНАЧЕЙСТВА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Times New Roman"/>
              </a:rPr>
              <a:t>ПО ВОПРОСАМ ФУНКЦИОНИРОВАНИЯ ГОСУДАРСТВЕННОЙ ИНФОРМАЦИОННОЙ СИСТЕМ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Times New Roman"/>
              </a:rPr>
              <a:t>О ГОСУДАРСТВЕННЫХ И МУНИЦИПАЛЬНЫХ ПЛАТЕЖАХ И АДМИНИСТРИРОВАНИЯ ДОХОДО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2673"/>
                </a:solidFill>
                <a:latin typeface="Times New Roman"/>
              </a:rPr>
              <a:t>C </a:t>
            </a:r>
            <a:r>
              <a:rPr b="1" lang="ru-RU" sz="2200" spc="-1" strike="noStrike">
                <a:solidFill>
                  <a:srgbClr val="262673"/>
                </a:solidFill>
                <a:latin typeface="Times New Roman"/>
              </a:rPr>
              <a:t>ЯНВАРЯ 2014 ГОД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896760"/>
            <a:ext cx="86421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6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Times New Roman"/>
              </a:rPr>
              <a:t>МЕТОДИЧЕСКАЯ ПОДДЕРЖКА УЧАСТНИКОВ ГИС ГМП</a:t>
            </a:r>
            <a:endParaRPr b="1" lang="en-US" sz="19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9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C0BD-E2EC-4EDA-9485-94E5861D2E90}" type="slidenum">
              <a:rPr b="1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79280" y="141300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 algn="just">
              <a:lnSpc>
                <a:spcPct val="100000"/>
              </a:lnSpc>
              <a:spcAft>
                <a:spcPts val="24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риказ Федерального казначейства от 30.11.2012г. № 19н «Об утверждении Порядка ведения государственной информационной системы о государственных и муниципальных платежах» - планируется внести изменения в 1 квартале 2014 г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4960" algn="just">
              <a:lnSpc>
                <a:spcPct val="100000"/>
              </a:lnSpc>
              <a:spcAft>
                <a:spcPts val="24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овместное письмо Минфина России и Федерального казначейства от 12.03.2013г. № 02-04-05/7491, 42-7.4-05/5.4-147 об указании идентификаторов в распоряжении и о предоставлении в ГИС ГМП информации о платежа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4960" algn="just">
              <a:lnSpc>
                <a:spcPct val="100000"/>
              </a:lnSpc>
              <a:spcAft>
                <a:spcPts val="24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исьмо Федерального казначейства от 15.02.2013г. № 42-7.4-05/1.3-97 администраторам начислений об идентичности информации в начислении, выдаваемом плательщику, и информации, представляемой в извещении о начислении в ГИС ГМ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4960" algn="just">
              <a:lnSpc>
                <a:spcPct val="100000"/>
              </a:lnSpc>
              <a:spcAft>
                <a:spcPts val="24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ротокол заседания Правительственной комиссии по внедрению информационных технологий в деятельность государственных органов и органов местного самоуправления от 18 апреля 2013г. № 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896760"/>
            <a:ext cx="86421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6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Arial"/>
                <a:ea typeface="Times New Roman"/>
              </a:rPr>
              <a:t>МЕТОДИЧЕСКАЯ ПОДДЕРЖКА УЧАСТНИКОВ ГИС ГМП</a:t>
            </a:r>
            <a:endParaRPr b="1" lang="en-US" sz="19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3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00E2-B3A7-4F68-B183-8D784BCD16EB}" type="slidenum">
              <a:rPr b="1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79280" y="1413000"/>
            <a:ext cx="871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 algn="just">
              <a:lnSpc>
                <a:spcPct val="100000"/>
              </a:lnSpc>
              <a:spcAft>
                <a:spcPts val="24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оложение о правилах осуществления перевода денежных средств – утв. Банком России 19.06.2012 N 383-П (с изм. от 15.07.2013г.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4960" algn="just">
              <a:lnSpc>
                <a:spcPct val="100000"/>
              </a:lnSpc>
              <a:spcAft>
                <a:spcPts val="24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оложение о платежной системе Банка России - утв. Банком России 29.06.2012 N 384-П (ред. от 25.10.201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4960" algn="just">
              <a:lnSpc>
                <a:spcPct val="100000"/>
              </a:lnSpc>
              <a:spcAft>
                <a:spcPts val="24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риказ Минфина России от  12.11.2013г. № 107н «Об утверждении Правил указания информации в реквизитах распоряжений о переводе денежных средств в уплату платежей в бюджетную систему Российской Федерации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4960" algn="just">
              <a:lnSpc>
                <a:spcPct val="100000"/>
              </a:lnSpc>
              <a:spcAft>
                <a:spcPts val="24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роект приказа Минфина России «Об утверждении Порядка учета Федеральным казначейством поступлений в бюджетную систему Российской Федерации и их распределения между бюджетами бюджетной системы Российской Фед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6421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6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Times New Roman"/>
              </a:rPr>
              <a:t>ИНФОРМАЦИОННАЯ ПОДДЕРЖКА УЧАСТНИКОВ ГИС ГМП </a:t>
            </a:r>
            <a:endParaRPr b="1" lang="en-US" sz="19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7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395C-E6AF-4978-8B0F-014D4A07DF2A}" type="slidenum">
              <a:rPr b="1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182520" y="1238400"/>
            <a:ext cx="8845560" cy="5284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A045-2BB0-4007-9D60-7B10AAC82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5640" y="2637000"/>
            <a:ext cx="7453440" cy="85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8ABC-EF1E-415C-8E6A-2AF3E42129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7"/>
          <p:cNvSpPr/>
          <p:nvPr/>
        </p:nvSpPr>
        <p:spPr>
          <a:xfrm>
            <a:off x="0" y="620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Arial"/>
              </a:rPr>
              <a:t>Текущее количество участников ГИС ГМ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(на 29 ноября 2013 года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2"/>
          <p:cNvSpPr/>
          <p:nvPr/>
        </p:nvSpPr>
        <p:spPr>
          <a:xfrm>
            <a:off x="2556000" y="4076640"/>
            <a:ext cx="43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Times New Roman"/>
              </a:rPr>
              <a:t>Администраторы доход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30"/>
          <p:cNvSpPr/>
          <p:nvPr/>
        </p:nvSpPr>
        <p:spPr>
          <a:xfrm>
            <a:off x="285840" y="3786120"/>
            <a:ext cx="8569080" cy="0"/>
          </a:xfrm>
          <a:prstGeom prst="line">
            <a:avLst/>
          </a:prstGeom>
          <a:ln w="25560">
            <a:solidFill>
              <a:srgbClr val="e9f4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0"/>
          <p:cNvSpPr/>
          <p:nvPr/>
        </p:nvSpPr>
        <p:spPr>
          <a:xfrm>
            <a:off x="2556000" y="134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Times New Roman"/>
              </a:rPr>
              <a:t>Кредитные орган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9CB6-051B-47C4-A67B-345BD71359F8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хема 63" descr=""/>
          <p:cNvPicPr/>
          <p:nvPr/>
        </p:nvPicPr>
        <p:blipFill>
          <a:blip r:embed="rId1"/>
          <a:stretch/>
        </p:blipFill>
        <p:spPr>
          <a:xfrm>
            <a:off x="4853160" y="1682640"/>
            <a:ext cx="4297320" cy="2462400"/>
          </a:xfrm>
          <a:prstGeom prst="rect">
            <a:avLst/>
          </a:prstGeom>
          <a:ln w="0">
            <a:noFill/>
          </a:ln>
        </p:spPr>
      </p:pic>
      <p:pic>
        <p:nvPicPr>
          <p:cNvPr id="99" name="Схема 64" descr=""/>
          <p:cNvPicPr/>
          <p:nvPr/>
        </p:nvPicPr>
        <p:blipFill>
          <a:blip r:embed="rId2"/>
          <a:stretch/>
        </p:blipFill>
        <p:spPr>
          <a:xfrm>
            <a:off x="4925880" y="4346640"/>
            <a:ext cx="4224600" cy="2249280"/>
          </a:xfrm>
          <a:prstGeom prst="rect">
            <a:avLst/>
          </a:prstGeom>
          <a:ln w="0">
            <a:noFill/>
          </a:ln>
        </p:spPr>
      </p:pic>
      <p:pic>
        <p:nvPicPr>
          <p:cNvPr id="100" name="Диаграмма 10" descr=""/>
          <p:cNvPicPr/>
          <p:nvPr/>
        </p:nvPicPr>
        <p:blipFill>
          <a:blip r:embed="rId3"/>
          <a:stretch/>
        </p:blipFill>
        <p:spPr>
          <a:xfrm>
            <a:off x="-6480" y="4175280"/>
            <a:ext cx="5011920" cy="2689200"/>
          </a:xfrm>
          <a:prstGeom prst="rect">
            <a:avLst/>
          </a:prstGeom>
          <a:ln w="0">
            <a:noFill/>
          </a:ln>
        </p:spPr>
      </p:pic>
      <p:pic>
        <p:nvPicPr>
          <p:cNvPr id="101" name="Диаграмма 11" descr=""/>
          <p:cNvPicPr/>
          <p:nvPr/>
        </p:nvPicPr>
        <p:blipFill>
          <a:blip r:embed="rId4"/>
          <a:stretch/>
        </p:blipFill>
        <p:spPr>
          <a:xfrm>
            <a:off x="-6480" y="1407960"/>
            <a:ext cx="5011920" cy="296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C8A0-897C-41E6-8211-C75139F8C0B7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Диаграмма 12" descr=""/>
          <p:cNvPicPr/>
          <p:nvPr/>
        </p:nvPicPr>
        <p:blipFill>
          <a:blip r:embed="rId1"/>
          <a:stretch/>
        </p:blipFill>
        <p:spPr>
          <a:xfrm>
            <a:off x="4565520" y="4065480"/>
            <a:ext cx="4584960" cy="2799000"/>
          </a:xfrm>
          <a:prstGeom prst="rect">
            <a:avLst/>
          </a:prstGeom>
          <a:ln w="0">
            <a:noFill/>
          </a:ln>
        </p:spPr>
      </p:pic>
      <p:pic>
        <p:nvPicPr>
          <p:cNvPr id="105" name="Диаграмма 13" descr=""/>
          <p:cNvPicPr/>
          <p:nvPr/>
        </p:nvPicPr>
        <p:blipFill>
          <a:blip r:embed="rId2"/>
          <a:stretch/>
        </p:blipFill>
        <p:spPr>
          <a:xfrm>
            <a:off x="-6480" y="4065480"/>
            <a:ext cx="4584960" cy="27990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ая соединительная линия 15"/>
          <p:cNvSpPr/>
          <p:nvPr/>
        </p:nvSpPr>
        <p:spPr>
          <a:xfrm flipH="1">
            <a:off x="4570560" y="4002120"/>
            <a:ext cx="2880" cy="2428920"/>
          </a:xfrm>
          <a:prstGeom prst="line">
            <a:avLst/>
          </a:prstGeom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le 7"/>
          <p:cNvSpPr/>
          <p:nvPr/>
        </p:nvSpPr>
        <p:spPr>
          <a:xfrm>
            <a:off x="0" y="54936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Arial"/>
              </a:rPr>
              <a:t>Взаимодействие участников с ГИС ГМ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(на 01 ноября 2013 года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7"/>
          <p:cNvSpPr/>
          <p:nvPr/>
        </p:nvSpPr>
        <p:spPr>
          <a:xfrm flipH="1" flipV="1">
            <a:off x="240840" y="3784680"/>
            <a:ext cx="8643960" cy="1440"/>
          </a:xfrm>
          <a:prstGeom prst="line">
            <a:avLst/>
          </a:prstGeom>
          <a:ln w="1908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8"/>
          <p:cNvSpPr/>
          <p:nvPr/>
        </p:nvSpPr>
        <p:spPr>
          <a:xfrm flipH="1">
            <a:off x="4572000" y="1143000"/>
            <a:ext cx="1440" cy="2357280"/>
          </a:xfrm>
          <a:prstGeom prst="line">
            <a:avLst/>
          </a:prstGeom>
          <a:ln w="19080">
            <a:solidFill>
              <a:srgbClr val="f0f8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Диаграмма 18" descr=""/>
          <p:cNvPicPr/>
          <p:nvPr/>
        </p:nvPicPr>
        <p:blipFill>
          <a:blip r:embed="rId3"/>
          <a:stretch/>
        </p:blipFill>
        <p:spPr>
          <a:xfrm>
            <a:off x="-6480" y="1335240"/>
            <a:ext cx="4584960" cy="2584440"/>
          </a:xfrm>
          <a:prstGeom prst="rect">
            <a:avLst/>
          </a:prstGeom>
          <a:ln w="0">
            <a:noFill/>
          </a:ln>
        </p:spPr>
      </p:pic>
      <p:pic>
        <p:nvPicPr>
          <p:cNvPr id="111" name="Диаграмма 7" descr=""/>
          <p:cNvPicPr/>
          <p:nvPr/>
        </p:nvPicPr>
        <p:blipFill>
          <a:blip r:embed="rId4"/>
          <a:stretch/>
        </p:blipFill>
        <p:spPr>
          <a:xfrm>
            <a:off x="4565520" y="1335240"/>
            <a:ext cx="4584960" cy="2584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2D43-A81B-42BE-8E2C-2E4B32B46495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739800"/>
          <a:ext cx="8785440" cy="6049800"/>
        </p:xfrm>
        <a:graphic>
          <a:graphicData uri="http://schemas.openxmlformats.org/drawingml/2006/table">
            <a:tbl>
              <a:tblPr/>
              <a:tblGrid>
                <a:gridCol w="313920"/>
                <a:gridCol w="6962760"/>
                <a:gridCol w="1403280"/>
                <a:gridCol w="105840"/>
              </a:tblGrid>
              <a:tr h="925560">
                <a:tc gridSpan="4"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2e69"/>
                          </a:solidFill>
                          <a:uFillTx/>
                          <a:latin typeface="Calibri"/>
                          <a:ea typeface="Times New Roman"/>
                        </a:rPr>
                        <a:t>Выполнение протокольных решений, принятых на заседании Правительственной комиссии по внедрению информационных технологий в деятельность государственных органов и органов местного самоуправления      </a:t>
                      </a:r>
                      <a:r>
                        <a:rPr b="1" lang="ru-RU" sz="14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(протокол от 18 апреля 2013 г. №3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Поруч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Исполнител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Провести мероприятия, направленные на создание портального решения ГИС ГМП и создание центрального сервиса формирования предварительных начислений на основании реестра платежей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Казначейство Росси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Проработать вопрос использования «кодов платежа» и метода предварительных начислений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Казначейство России,ФНС России,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Росреестром,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ФМС Росс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Внести изменения в приказ Минфина России от 24.11.2004 №106н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Минфин России,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Казначейство России,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Банк России </a:t>
                      </a: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Рекомендовать внести изменения в Положение Банка России от 19.06.2012 №383-П от 19.06.2012 г. N 383-П "О правилах осуществления перевода денежных средств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Банк России,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Минфин России,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Казначейство России </a:t>
                      </a: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</a:tr>
              <a:tr h="121824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Направить в Банк России предложения. Учитывающие предложения ФНС России, Росреестра. ФССП России, МВД России, ФМС России, об указании в распоряжениях о переводе денежных средств идентификатора сведений о физическом лице, отличном от ИНН, и идентификатора сведений о третьем лице. </a:t>
                      </a:r>
                      <a:r>
                        <a:rPr b="0" lang="ru-RU" sz="16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Минфин России,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Казначейство России </a:t>
                      </a:r>
                      <a:r>
                        <a:rPr b="0" lang="ru-RU" sz="13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2e69"/>
                      </a:solidFill>
                    </a:lnL>
                    <a:lnR w="5760">
                      <a:solidFill>
                        <a:srgbClr val="002e69"/>
                      </a:solidFill>
                    </a:lnR>
                    <a:lnT w="5760">
                      <a:solidFill>
                        <a:srgbClr val="002e69"/>
                      </a:solidFill>
                    </a:lnT>
                    <a:lnB w="5760">
                      <a:solidFill>
                        <a:srgbClr val="002e6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Прямая соединительная линия 34"/>
          <p:cNvSpPr/>
          <p:nvPr/>
        </p:nvSpPr>
        <p:spPr>
          <a:xfrm>
            <a:off x="8724960" y="4143240"/>
            <a:ext cx="142920" cy="0"/>
          </a:xfrm>
          <a:prstGeom prst="line">
            <a:avLst/>
          </a:prstGeom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34"/>
          <p:cNvSpPr/>
          <p:nvPr/>
        </p:nvSpPr>
        <p:spPr>
          <a:xfrm>
            <a:off x="8724960" y="3108240"/>
            <a:ext cx="142920" cy="0"/>
          </a:xfrm>
          <a:prstGeom prst="line">
            <a:avLst/>
          </a:prstGeom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34"/>
          <p:cNvSpPr/>
          <p:nvPr/>
        </p:nvSpPr>
        <p:spPr>
          <a:xfrm>
            <a:off x="8724960" y="5099040"/>
            <a:ext cx="142920" cy="0"/>
          </a:xfrm>
          <a:prstGeom prst="line">
            <a:avLst/>
          </a:prstGeom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34"/>
          <p:cNvSpPr/>
          <p:nvPr/>
        </p:nvSpPr>
        <p:spPr>
          <a:xfrm>
            <a:off x="8724960" y="6045120"/>
            <a:ext cx="142920" cy="0"/>
          </a:xfrm>
          <a:prstGeom prst="line">
            <a:avLst/>
          </a:prstGeom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4BA9-08B2-487C-8131-113F347FC6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79280" y="1700280"/>
            <a:ext cx="871380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Arial"/>
              </a:rPr>
              <a:t>ПЛАТЕЖНОЕ ПОРУЧЕНИЕ ПО КАЖДОМУ ПЛАТЕЖУ ФИЗ ЛИЦА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Aft>
                <a:spcPts val="1800"/>
              </a:spcAft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Arial"/>
              </a:rPr>
              <a:t>Значение реквизита «101» - статус 2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Aft>
                <a:spcPts val="1800"/>
              </a:spcAft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Arial"/>
              </a:rPr>
              <a:t>Порядок оформления реквизитов платежного поручения регулируется Положением Банка России № 383-П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Arial"/>
              </a:rPr>
              <a:t>ПЛАТЕЖНОЕ ПОРУЧЕНИЕ НА ОБЩУЮ СУММУ С РЕЕСТРОМ ПЛАТЕЖЕЙ ФИЗ ЛИЦ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Aft>
                <a:spcPts val="1800"/>
              </a:spcAft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Arial"/>
              </a:rPr>
              <a:t>Значение реквизита «101» - статус 1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Aft>
                <a:spcPts val="1800"/>
              </a:spcAft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Arial"/>
              </a:rPr>
              <a:t>Порядок оформления реквизитов платежного поручения регулируется Положением Банка России № 383-П, реестра к нему - Положением Банка России № 384-П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Arial"/>
              </a:rPr>
              <a:t>Расчетные документы для перечисления в бюджетную систему денежных средств физических лиц (статусы 15 и 2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9" descr=""/>
          <p:cNvPicPr/>
          <p:nvPr/>
        </p:nvPicPr>
        <p:blipFill>
          <a:blip r:embed="rId1"/>
          <a:stretch/>
        </p:blipFill>
        <p:spPr>
          <a:xfrm>
            <a:off x="1000080" y="3071880"/>
            <a:ext cx="1008000" cy="107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9" descr=""/>
          <p:cNvPicPr/>
          <p:nvPr/>
        </p:nvPicPr>
        <p:blipFill>
          <a:blip r:embed="rId2"/>
          <a:stretch/>
        </p:blipFill>
        <p:spPr>
          <a:xfrm>
            <a:off x="1000080" y="1214280"/>
            <a:ext cx="1008000" cy="1071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0" descr=""/>
          <p:cNvPicPr/>
          <p:nvPr/>
        </p:nvPicPr>
        <p:blipFill>
          <a:blip r:embed="rId3"/>
          <a:stretch/>
        </p:blipFill>
        <p:spPr>
          <a:xfrm>
            <a:off x="3643200" y="4857840"/>
            <a:ext cx="1290600" cy="128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0" descr=""/>
          <p:cNvPicPr/>
          <p:nvPr/>
        </p:nvPicPr>
        <p:blipFill>
          <a:blip r:embed="rId4"/>
          <a:stretch/>
        </p:blipFill>
        <p:spPr>
          <a:xfrm>
            <a:off x="3643200" y="3000240"/>
            <a:ext cx="1290600" cy="12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0" descr=""/>
          <p:cNvPicPr/>
          <p:nvPr/>
        </p:nvPicPr>
        <p:blipFill>
          <a:blip r:embed="rId5"/>
          <a:stretch/>
        </p:blipFill>
        <p:spPr>
          <a:xfrm>
            <a:off x="3643200" y="1143000"/>
            <a:ext cx="1290600" cy="1285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2"/>
          <p:cNvSpPr/>
          <p:nvPr/>
        </p:nvSpPr>
        <p:spPr>
          <a:xfrm>
            <a:off x="4929120" y="1714680"/>
            <a:ext cx="1714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нформация</a:t>
            </a:r>
            <a:r>
              <a:rPr b="1" lang="ru-RU" sz="13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</a:t>
            </a:r>
            <a:r>
              <a:rPr b="1" lang="en-US" sz="13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об опла</a:t>
            </a:r>
            <a:r>
              <a:rPr b="1" lang="ru-RU" sz="13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т</a:t>
            </a:r>
            <a:r>
              <a:rPr b="1" lang="en-US" sz="13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е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2000160" y="1714680"/>
            <a:ext cx="1714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Оплата </a:t>
            </a:r>
            <a:r>
              <a:rPr b="1" lang="ru-RU" sz="13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ачислений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A353-E206-4410-ABD6-E3AC7772058C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5"/>
          <p:cNvCxnSpPr/>
          <p:nvPr/>
        </p:nvCxnSpPr>
        <p:spPr>
          <a:xfrm>
            <a:off x="4928760" y="1928880"/>
            <a:ext cx="1715400" cy="2160"/>
          </a:xfrm>
          <a:prstGeom prst="straightConnector1">
            <a:avLst/>
          </a:prstGeom>
          <a:ln w="0">
            <a:noFill/>
          </a:ln>
        </p:spPr>
      </p:cxnSp>
      <p:sp>
        <p:nvSpPr>
          <p:cNvPr id="133" name="Rectangle 2"/>
          <p:cNvSpPr/>
          <p:nvPr/>
        </p:nvSpPr>
        <p:spPr>
          <a:xfrm>
            <a:off x="0" y="5493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  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Arial"/>
              </a:rPr>
              <a:t>Режимы взаимодействия кредитных организаций с ГИС ГМ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4929120" y="3929040"/>
            <a:ext cx="171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3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. Информация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об опла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т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е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начисле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4929120" y="3073320"/>
            <a:ext cx="171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1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. 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Запрос 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формац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о 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ачислен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 по ИП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0"/>
          <p:cNvSpPr/>
          <p:nvPr/>
        </p:nvSpPr>
        <p:spPr>
          <a:xfrm flipH="1">
            <a:off x="4928400" y="3462480"/>
            <a:ext cx="17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2. 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формация о начислен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 по ИП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35"/>
          <p:cNvCxnSpPr/>
          <p:nvPr/>
        </p:nvCxnSpPr>
        <p:spPr>
          <a:xfrm>
            <a:off x="1999800" y="1928880"/>
            <a:ext cx="1715400" cy="216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sp>
        <p:nvSpPr>
          <p:cNvPr id="138" name="Прямая соединительная линия 50"/>
          <p:cNvSpPr/>
          <p:nvPr/>
        </p:nvSpPr>
        <p:spPr>
          <a:xfrm>
            <a:off x="214200" y="2857680"/>
            <a:ext cx="6429600" cy="0"/>
          </a:xfrm>
          <a:prstGeom prst="line">
            <a:avLst/>
          </a:prstGeom>
          <a:ln w="25560">
            <a:solidFill>
              <a:srgbClr val="6b6b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35"/>
          <p:cNvCxnSpPr/>
          <p:nvPr/>
        </p:nvCxnSpPr>
        <p:spPr>
          <a:xfrm>
            <a:off x="1999800" y="3357720"/>
            <a:ext cx="1715400" cy="216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cxnSp>
        <p:nvCxnSpPr>
          <p:cNvPr id="140" name="Прямая со стрелкой 35"/>
          <p:cNvCxnSpPr/>
          <p:nvPr/>
        </p:nvCxnSpPr>
        <p:spPr>
          <a:xfrm>
            <a:off x="2009880" y="4214880"/>
            <a:ext cx="1715040" cy="216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cxnSp>
        <p:nvCxnSpPr>
          <p:cNvPr id="141" name="Прямая со стрелкой 55"/>
          <p:cNvCxnSpPr/>
          <p:nvPr/>
        </p:nvCxnSpPr>
        <p:spPr>
          <a:xfrm flipH="1" flipV="1">
            <a:off x="1999440" y="3785400"/>
            <a:ext cx="1715400" cy="252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sp>
        <p:nvSpPr>
          <p:cNvPr id="142" name="Rectangle 20"/>
          <p:cNvSpPr/>
          <p:nvPr/>
        </p:nvSpPr>
        <p:spPr>
          <a:xfrm>
            <a:off x="2000160" y="3071880"/>
            <a:ext cx="171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1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. 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Запрос 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формац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о 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ачислен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 по ИП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0"/>
          <p:cNvSpPr/>
          <p:nvPr/>
        </p:nvSpPr>
        <p:spPr>
          <a:xfrm flipH="1">
            <a:off x="1999440" y="3462480"/>
            <a:ext cx="17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2. 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формация о начислен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 по ИП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2000160" y="3929040"/>
            <a:ext cx="1695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3. Выбор начисления и его о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плата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35"/>
          <p:cNvCxnSpPr/>
          <p:nvPr/>
        </p:nvCxnSpPr>
        <p:spPr>
          <a:xfrm>
            <a:off x="4928760" y="3357720"/>
            <a:ext cx="1715400" cy="216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cxnSp>
        <p:nvCxnSpPr>
          <p:cNvPr id="146" name="Прямая со стрелкой 64"/>
          <p:cNvCxnSpPr/>
          <p:nvPr/>
        </p:nvCxnSpPr>
        <p:spPr>
          <a:xfrm flipH="1" flipV="1">
            <a:off x="4928400" y="3785400"/>
            <a:ext cx="1715400" cy="252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cxnSp>
        <p:nvCxnSpPr>
          <p:cNvPr id="147" name="Прямая со стрелкой 35"/>
          <p:cNvCxnSpPr/>
          <p:nvPr/>
        </p:nvCxnSpPr>
        <p:spPr>
          <a:xfrm>
            <a:off x="4928760" y="4214880"/>
            <a:ext cx="1715400" cy="216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sp>
        <p:nvSpPr>
          <p:cNvPr id="148" name="Прямая соединительная линия 67"/>
          <p:cNvSpPr/>
          <p:nvPr/>
        </p:nvSpPr>
        <p:spPr>
          <a:xfrm>
            <a:off x="214200" y="4714920"/>
            <a:ext cx="6429600" cy="0"/>
          </a:xfrm>
          <a:prstGeom prst="line">
            <a:avLst/>
          </a:prstGeom>
          <a:ln w="25560">
            <a:solidFill>
              <a:srgbClr val="6b6b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35"/>
          <p:cNvCxnSpPr/>
          <p:nvPr/>
        </p:nvCxnSpPr>
        <p:spPr>
          <a:xfrm>
            <a:off x="1999800" y="5214960"/>
            <a:ext cx="1715400" cy="216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cxnSp>
        <p:nvCxnSpPr>
          <p:cNvPr id="150" name="Прямая со стрелкой 35"/>
          <p:cNvCxnSpPr/>
          <p:nvPr/>
        </p:nvCxnSpPr>
        <p:spPr>
          <a:xfrm>
            <a:off x="1999800" y="6070680"/>
            <a:ext cx="1715400" cy="216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cxnSp>
        <p:nvCxnSpPr>
          <p:cNvPr id="151" name="Прямая со стрелкой 74"/>
          <p:cNvCxnSpPr/>
          <p:nvPr/>
        </p:nvCxnSpPr>
        <p:spPr>
          <a:xfrm flipH="1" flipV="1">
            <a:off x="1999440" y="5641200"/>
            <a:ext cx="1715400" cy="252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sp>
        <p:nvSpPr>
          <p:cNvPr id="152" name="Rectangle 20"/>
          <p:cNvSpPr/>
          <p:nvPr/>
        </p:nvSpPr>
        <p:spPr>
          <a:xfrm>
            <a:off x="2000160" y="4929120"/>
            <a:ext cx="171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1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. 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Запрос 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формац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о 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ачислен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 по УИН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0"/>
          <p:cNvSpPr/>
          <p:nvPr/>
        </p:nvSpPr>
        <p:spPr>
          <a:xfrm flipH="1">
            <a:off x="1999440" y="5311800"/>
            <a:ext cx="17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2. 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формация о начислен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 с УИН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35"/>
          <p:cNvCxnSpPr/>
          <p:nvPr/>
        </p:nvCxnSpPr>
        <p:spPr>
          <a:xfrm>
            <a:off x="4928760" y="5213520"/>
            <a:ext cx="1715400" cy="216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sp>
        <p:nvSpPr>
          <p:cNvPr id="155" name="Rectangle 20"/>
          <p:cNvSpPr/>
          <p:nvPr/>
        </p:nvSpPr>
        <p:spPr>
          <a:xfrm>
            <a:off x="4929120" y="4930920"/>
            <a:ext cx="1714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1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. 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Запрос 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формац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о 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ачислен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 по УИН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0"/>
          <p:cNvSpPr/>
          <p:nvPr/>
        </p:nvSpPr>
        <p:spPr>
          <a:xfrm flipH="1">
            <a:off x="4928400" y="5311800"/>
            <a:ext cx="17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2. И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нформация о начислени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и с УИН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Прямая со стрелкой 87"/>
          <p:cNvCxnSpPr/>
          <p:nvPr/>
        </p:nvCxnSpPr>
        <p:spPr>
          <a:xfrm flipH="1" flipV="1">
            <a:off x="4928400" y="5641200"/>
            <a:ext cx="1715400" cy="252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cxnSp>
        <p:nvCxnSpPr>
          <p:cNvPr id="158" name="Прямая со стрелкой 35"/>
          <p:cNvCxnSpPr/>
          <p:nvPr/>
        </p:nvCxnSpPr>
        <p:spPr>
          <a:xfrm>
            <a:off x="4928760" y="6070680"/>
            <a:ext cx="1715400" cy="216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sp>
        <p:nvSpPr>
          <p:cNvPr id="159" name="Rectangle 22"/>
          <p:cNvSpPr/>
          <p:nvPr/>
        </p:nvSpPr>
        <p:spPr>
          <a:xfrm>
            <a:off x="4929120" y="5786280"/>
            <a:ext cx="171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3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. Информация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об опла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т</a:t>
            </a:r>
            <a:r>
              <a:rPr b="1" lang="en-US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е</a:t>
            </a: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 начисле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94"/>
          <p:cNvSpPr/>
          <p:nvPr/>
        </p:nvSpPr>
        <p:spPr>
          <a:xfrm flipH="1">
            <a:off x="785880" y="1143000"/>
            <a:ext cx="1440" cy="5359320"/>
          </a:xfrm>
          <a:prstGeom prst="line">
            <a:avLst/>
          </a:prstGeom>
          <a:ln w="25560">
            <a:solidFill>
              <a:srgbClr val="558e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95"/>
          <p:cNvSpPr/>
          <p:nvPr/>
        </p:nvSpPr>
        <p:spPr>
          <a:xfrm>
            <a:off x="231840" y="1571760"/>
            <a:ext cx="428400" cy="7142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714240"/>
              <a:gd name="textAreaBottom" fmla="*/ 693360 h 714240"/>
            </a:gdLst>
            <a:ahLst/>
            <a:rect l="textAreaLeft" t="textAreaTop" r="textAreaRight" b="textAreaBottom"/>
            <a:pathLst>
              <a:path w="21600" h="36000">
                <a:moveTo>
                  <a:pt x="3600" y="0"/>
                </a:moveTo>
                <a:arcTo wR="3600" hR="3600" stAng="16200000" swAng="-5400000"/>
                <a:lnTo>
                  <a:pt x="0" y="32400"/>
                </a:lnTo>
                <a:arcTo wR="3600" hR="3600" stAng="10800000" swAng="-5400000"/>
                <a:lnTo>
                  <a:pt x="18000" y="36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>
              <a:alpha val="60000"/>
            </a:srgbClr>
          </a:solidFill>
          <a:ln w="19080">
            <a:solidFill>
              <a:srgbClr val="e9f4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96"/>
          <p:cNvSpPr/>
          <p:nvPr/>
        </p:nvSpPr>
        <p:spPr>
          <a:xfrm>
            <a:off x="231840" y="3429000"/>
            <a:ext cx="428400" cy="7142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714240"/>
              <a:gd name="textAreaBottom" fmla="*/ 693360 h 714240"/>
            </a:gdLst>
            <a:ahLst/>
            <a:rect l="textAreaLeft" t="textAreaTop" r="textAreaRight" b="textAreaBottom"/>
            <a:pathLst>
              <a:path w="21600" h="36000">
                <a:moveTo>
                  <a:pt x="3600" y="0"/>
                </a:moveTo>
                <a:arcTo wR="3600" hR="3600" stAng="16200000" swAng="-5400000"/>
                <a:lnTo>
                  <a:pt x="0" y="32400"/>
                </a:lnTo>
                <a:arcTo wR="3600" hR="3600" stAng="10800000" swAng="-5400000"/>
                <a:lnTo>
                  <a:pt x="18000" y="36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>
              <a:alpha val="60000"/>
            </a:srgbClr>
          </a:solidFill>
          <a:ln w="19080">
            <a:solidFill>
              <a:srgbClr val="e9f4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97"/>
          <p:cNvSpPr/>
          <p:nvPr/>
        </p:nvSpPr>
        <p:spPr>
          <a:xfrm>
            <a:off x="231840" y="5286240"/>
            <a:ext cx="428400" cy="7146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714600"/>
              <a:gd name="textAreaBottom" fmla="*/ 693720 h 714600"/>
            </a:gdLst>
            <a:ahLst/>
            <a:rect l="textAreaLeft" t="textAreaTop" r="textAreaRight" b="textAreaBottom"/>
            <a:pathLst>
              <a:path w="21600" h="36018">
                <a:moveTo>
                  <a:pt x="3600" y="0"/>
                </a:moveTo>
                <a:arcTo wR="3600" hR="3600" stAng="16200000" swAng="-5400000"/>
                <a:lnTo>
                  <a:pt x="0" y="32418"/>
                </a:lnTo>
                <a:arcTo wR="3600" hR="3600" stAng="10800000" swAng="-5400000"/>
                <a:lnTo>
                  <a:pt x="18000" y="360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>
              <a:alpha val="60000"/>
            </a:srgbClr>
          </a:solidFill>
          <a:ln w="19080">
            <a:solidFill>
              <a:srgbClr val="e9f4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2000160" y="5857920"/>
            <a:ext cx="169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3. Оплата начисле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авая фигурная скобка 56"/>
          <p:cNvSpPr/>
          <p:nvPr/>
        </p:nvSpPr>
        <p:spPr>
          <a:xfrm>
            <a:off x="7215120" y="2928960"/>
            <a:ext cx="285840" cy="350028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3500280"/>
              <a:gd name="textAreaBottom" fmla="*/ 349308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"/>
                  <a:pt x="10800" y="147"/>
                </a:cubicBezTo>
                <a:lnTo>
                  <a:pt x="10800" y="10653"/>
                </a:lnTo>
                <a:cubicBezTo>
                  <a:pt x="10800" y="10727"/>
                  <a:pt x="16200" y="10800"/>
                  <a:pt x="21600" y="10800"/>
                </a:cubicBezTo>
                <a:cubicBezTo>
                  <a:pt x="16200" y="10800"/>
                  <a:pt x="10800" y="10874"/>
                  <a:pt x="10800" y="10947"/>
                </a:cubicBezTo>
                <a:lnTo>
                  <a:pt x="10800" y="21453"/>
                </a:lnTo>
                <a:cubicBezTo>
                  <a:pt x="10800" y="21527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Rectangle 33"/>
          <p:cNvGrpSpPr/>
          <p:nvPr/>
        </p:nvGrpSpPr>
        <p:grpSpPr>
          <a:xfrm>
            <a:off x="7613640" y="3541680"/>
            <a:ext cx="1451160" cy="2268720"/>
            <a:chOff x="7613640" y="3541680"/>
            <a:chExt cx="1451160" cy="2268720"/>
          </a:xfrm>
        </p:grpSpPr>
        <p:pic>
          <p:nvPicPr>
            <p:cNvPr id="167" name="Rectangle 33" descr=""/>
            <p:cNvPicPr/>
            <p:nvPr/>
          </p:nvPicPr>
          <p:blipFill>
            <a:blip r:embed="rId6"/>
            <a:stretch/>
          </p:blipFill>
          <p:spPr>
            <a:xfrm>
              <a:off x="7613640" y="3541680"/>
              <a:ext cx="145116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658280" y="3586320"/>
              <a:ext cx="136512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d2d8a"/>
                  </a:solidFill>
                  <a:latin typeface="Times New Roman"/>
                  <a:ea typeface="Arial"/>
                </a:rPr>
                <a:t>Указание корректного реквизитного состава,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d2d8a"/>
                  </a:solidFill>
                  <a:latin typeface="Times New Roman"/>
                  <a:ea typeface="Arial"/>
                </a:rPr>
                <a:t>сокращение невыясненных платежей в бюджет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51"/>
          <p:cNvSpPr/>
          <p:nvPr/>
        </p:nvSpPr>
        <p:spPr>
          <a:xfrm>
            <a:off x="3786120" y="228600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Кредитные организац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9"/>
          <p:cNvSpPr/>
          <p:nvPr/>
        </p:nvSpPr>
        <p:spPr>
          <a:xfrm>
            <a:off x="3786120" y="414324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Кредитные организац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9"/>
          <p:cNvSpPr/>
          <p:nvPr/>
        </p:nvSpPr>
        <p:spPr>
          <a:xfrm>
            <a:off x="3786120" y="600084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Кредитные организац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8"/>
          <p:cNvSpPr/>
          <p:nvPr/>
        </p:nvSpPr>
        <p:spPr>
          <a:xfrm>
            <a:off x="857160" y="2193840"/>
            <a:ext cx="121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Физические и </a:t>
            </a:r>
            <a:r>
              <a:rPr b="1" lang="ru-RU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ю</a:t>
            </a:r>
            <a:r>
              <a:rPr b="1" lang="en-US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ридические лиц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1"/>
          <p:cNvSpPr/>
          <p:nvPr/>
        </p:nvSpPr>
        <p:spPr>
          <a:xfrm>
            <a:off x="857160" y="4051440"/>
            <a:ext cx="121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Физические и </a:t>
            </a:r>
            <a:r>
              <a:rPr b="1" lang="ru-RU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ю</a:t>
            </a:r>
            <a:r>
              <a:rPr b="1" lang="en-US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ридические лиц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9" descr=""/>
          <p:cNvPicPr/>
          <p:nvPr/>
        </p:nvPicPr>
        <p:blipFill>
          <a:blip r:embed="rId7"/>
          <a:stretch/>
        </p:blipFill>
        <p:spPr>
          <a:xfrm>
            <a:off x="1000080" y="4857840"/>
            <a:ext cx="1008000" cy="10713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91"/>
          <p:cNvSpPr/>
          <p:nvPr/>
        </p:nvSpPr>
        <p:spPr>
          <a:xfrm>
            <a:off x="857160" y="5837400"/>
            <a:ext cx="121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Физические и </a:t>
            </a:r>
            <a:r>
              <a:rPr b="1" lang="ru-RU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ю</a:t>
            </a:r>
            <a:r>
              <a:rPr b="1" lang="en-US" sz="1200" spc="-1" strike="noStrike">
                <a:solidFill>
                  <a:srgbClr val="2d2d8a"/>
                </a:solidFill>
                <a:latin typeface="Times New Roman"/>
                <a:ea typeface="ＭＳ Ｐゴシック"/>
              </a:rPr>
              <a:t>ридические лиц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ectangle 33"/>
          <p:cNvGrpSpPr/>
          <p:nvPr/>
        </p:nvGrpSpPr>
        <p:grpSpPr>
          <a:xfrm>
            <a:off x="6613560" y="1182600"/>
            <a:ext cx="609480" cy="5199120"/>
            <a:chOff x="6613560" y="1182600"/>
            <a:chExt cx="609480" cy="5199120"/>
          </a:xfrm>
        </p:grpSpPr>
        <p:pic>
          <p:nvPicPr>
            <p:cNvPr id="177" name="Rectangle 33" descr=""/>
            <p:cNvPicPr/>
            <p:nvPr/>
          </p:nvPicPr>
          <p:blipFill>
            <a:blip r:embed="rId8"/>
            <a:stretch/>
          </p:blipFill>
          <p:spPr>
            <a:xfrm>
              <a:off x="6613560" y="1182600"/>
              <a:ext cx="609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675480" y="1219320"/>
              <a:ext cx="490320" cy="51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ГИС ГМП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10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9D35-5A54-47AE-9B96-0D3827A2BC38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692280"/>
          <a:ext cx="9001080" cy="6165720"/>
        </p:xfrm>
        <a:graphic>
          <a:graphicData uri="http://schemas.openxmlformats.org/drawingml/2006/table">
            <a:tbl>
              <a:tblPr/>
              <a:tblGrid>
                <a:gridCol w="214200"/>
                <a:gridCol w="7072560"/>
                <a:gridCol w="1000080"/>
                <a:gridCol w="714240"/>
              </a:tblGrid>
              <a:tr h="488880">
                <a:tc gridSpan="4"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Проект протокола </a:t>
                      </a:r>
                      <a:r>
                        <a:rPr b="1" lang="ru-RU" sz="1400" spc="-1" strike="noStrike">
                          <a:solidFill>
                            <a:srgbClr val="002e69"/>
                          </a:solidFill>
                          <a:latin typeface="Calibri"/>
                          <a:ea typeface="Arial"/>
                        </a:rPr>
                        <a:t>Правительственной комиссии по использованию информационных технологий для улучшения качества жизни и  условий ведения предпринимательской деятельн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e69"/>
                          </a:solidFill>
                          <a:latin typeface="Calibri"/>
                          <a:ea typeface="Arial"/>
                        </a:rPr>
                        <a:t>07 ноября 2013 г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 gridSpan="2"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Поруч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Исполн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Срок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just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Внести в Правительство Российской Федерации проекты нормативных правовых актов, регламентирующих создание и ведение реестра доходных источников бюджетов бюджетной системы Российской Федерации и единые правила формирования первичных документов по доходам бюджетов бюджетной системы Российской Федерации и требования по их обязательному применению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Минфин Росс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01.02.201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just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Внести в Правительство Российской Федерации проекты нормативных правовых актов, регламентирующих полномочия Минфина России по установлению реквизитов и форм распоряжений о переводе денежных средств, являющихся источниками доходов бюджетов бюджетной системы Российской Федерации, в уплату платежей за государственные и муниципальные услуги, а также услуги, являющиеся необходимыми и обязательными при оказании государственных и муниципальных услуг, правил их оформления и приема к исполнению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Минфин Росс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Банк Росс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01.03.201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just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Установить перечень обязательных реквизитов распоряжений о переводе денежных средств, являющихся источниками доходов бюджетов бюджетной системы Российской Федерации, в уплату платежей за государственные и муниципальные услуги, а также услуги, являющиеся необходимыми и обязательными при оказании государственных и муниципальных услуг (идентификаторов плательщика, получателя, уникального идентификатора начисления (в случае наличия)), а также требования к обязательным реквизитам и формам распоряжений о переводе денежных средств, являющихся источниками доходов бюджетов бюджетной системы Российской Федерации, в уплату платежей за государственные и муниципальные услуги, а также услуги, являющиеся необходимыми и обязательными при оказании государственных и муниципальных услуг, правила их оформления и приема к исполнению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Минфин Росс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Федеральное казначейство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Банк Росс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30.06.201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just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Рекомендовать внести изменения в нормативные акты, предусматривающие обязательное указание в распоряжениях о переводе денежных средств, являющихся источниками доходов бюджетов бюджетной системы Российской Федерации, в уплату платежей за государственные и муниципальные услуги, а также услуги, являющиеся необходимыми и обязательными при оказании государственных и муниципальных услуг, идентификаторов плательщика, получателя, уникальных идентификаторов начислений (в случае наличия)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Банк Росс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Минфин Росс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Федеральное казначейств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ФНС Росс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Через 6 месяцев после выполнения пункта 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just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Внести изменения в порядок ведения государственной информационной системы о государственных и муниципальных платежах (далее - ГИС ГМП), утвержденный Приказом Федерального казначейства от 30 ноября . № 19н "Об утверждении Порядка ведения Государственной информационной системы о государственных и муниципальных платежах", и форматы взаимодействия информационных систем участников с ГИС ГМП, предусматривающие возможность выполнения участниками или привлеченными организациями функций агрегаторов электронных сообщений, содержащих информацию об уплате платежей, принятых местными администрациями, органами, осуществляющих открытие и ведение лицевых счетов участников и неучастников бюджетного процесса (финансовыми органами), кредитными организациями, банковскими платежными агентами (субагентами), платежными агентами, для передачи в ГИС ГМ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Федеральное казначейство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31.03.201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just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Рекомендовать обеспечить проведение организационных действий, направленных на максимальное подключение банков к системе ГИС ГМП и устранение нарушений норм федерального законодательства, устанавливающих обязанность по предоставлению кредитными организациями, информации в ГИС ГМ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Банк Росс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just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Обеспечить организацию работ по определению органа, осуществляющего  контрольно-надзорные функции за исполнением норм федерального законодательства, устанавливающих обязанность по предоставлению информации в ГИС ГМП, кредитными организациями, банковскими платежными агентами (субагентами), платежными агентами, предусмотрев при необходимости внесение изменений в законодательство Российской Федерации и нормативные правовые акты Российской Федераци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Правительство Российской Федер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e69"/>
                          </a:solidFill>
                          <a:latin typeface="Calibri"/>
                          <a:ea typeface="Times New Roman"/>
                        </a:rPr>
                        <a:t>07.02.201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576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Прямая соединительная линия 34"/>
          <p:cNvSpPr/>
          <p:nvPr/>
        </p:nvSpPr>
        <p:spPr>
          <a:xfrm>
            <a:off x="8643960" y="5732640"/>
            <a:ext cx="142920" cy="0"/>
          </a:xfrm>
          <a:prstGeom prst="line">
            <a:avLst/>
          </a:prstGeom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C:\Users\designer\Desktop\Для презентаций\jigsaw-puzzle-kids чб.png"/>
          <p:cNvPicPr/>
          <p:nvPr/>
        </p:nvPicPr>
        <p:blipFill>
          <a:blip r:embed="rId1"/>
          <a:stretch/>
        </p:blipFill>
        <p:spPr>
          <a:xfrm>
            <a:off x="642960" y="2857680"/>
            <a:ext cx="4595760" cy="29286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23"/>
          <p:cNvSpPr/>
          <p:nvPr/>
        </p:nvSpPr>
        <p:spPr>
          <a:xfrm flipH="1">
            <a:off x="1428840" y="4357800"/>
            <a:ext cx="642960" cy="857160"/>
          </a:xfrm>
          <a:prstGeom prst="line">
            <a:avLst/>
          </a:prstGeom>
          <a:ln w="1908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4"/>
          <p:cNvSpPr/>
          <p:nvPr/>
        </p:nvSpPr>
        <p:spPr>
          <a:xfrm flipH="1" flipV="1">
            <a:off x="3428640" y="4428720"/>
            <a:ext cx="1143000" cy="428760"/>
          </a:xfrm>
          <a:prstGeom prst="line">
            <a:avLst/>
          </a:prstGeom>
          <a:ln w="1908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6"/>
          <p:cNvSpPr/>
          <p:nvPr/>
        </p:nvSpPr>
        <p:spPr>
          <a:xfrm flipH="1">
            <a:off x="3428640" y="2214720"/>
            <a:ext cx="500040" cy="1500120"/>
          </a:xfrm>
          <a:prstGeom prst="line">
            <a:avLst/>
          </a:prstGeom>
          <a:ln w="1908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Скругленный прямоугольник 7"/>
          <p:cNvGrpSpPr/>
          <p:nvPr/>
        </p:nvGrpSpPr>
        <p:grpSpPr>
          <a:xfrm>
            <a:off x="146160" y="1163520"/>
            <a:ext cx="4200480" cy="701640"/>
            <a:chOff x="146160" y="1163520"/>
            <a:chExt cx="4200480" cy="701640"/>
          </a:xfrm>
        </p:grpSpPr>
        <p:pic>
          <p:nvPicPr>
            <p:cNvPr id="189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146160" y="1163520"/>
              <a:ext cx="420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89000" y="1206360"/>
              <a:ext cx="412416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Государственная информационная система о государственных и муниципальных платежах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Прямая соединительная линия 24"/>
          <p:cNvSpPr/>
          <p:nvPr/>
        </p:nvSpPr>
        <p:spPr>
          <a:xfrm flipH="1" flipV="1">
            <a:off x="1571400" y="2285640"/>
            <a:ext cx="1500120" cy="1857240"/>
          </a:xfrm>
          <a:prstGeom prst="line">
            <a:avLst/>
          </a:prstGeom>
          <a:ln w="1908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E3B7-EFD3-4345-8FC7-50B094F73506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Arial"/>
              </a:rPr>
              <a:t>Вопросы и предлагаемые решения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94" name="Rectangle 32"/>
          <p:cNvGrpSpPr/>
          <p:nvPr/>
        </p:nvGrpSpPr>
        <p:grpSpPr>
          <a:xfrm>
            <a:off x="182520" y="1968480"/>
            <a:ext cx="1414440" cy="1128600"/>
            <a:chOff x="182520" y="1968480"/>
            <a:chExt cx="1414440" cy="1128600"/>
          </a:xfrm>
        </p:grpSpPr>
        <p:pic>
          <p:nvPicPr>
            <p:cNvPr id="195" name="Rectangle 32" descr=""/>
            <p:cNvPicPr/>
            <p:nvPr/>
          </p:nvPicPr>
          <p:blipFill>
            <a:blip r:embed="rId3"/>
            <a:stretch/>
          </p:blipFill>
          <p:spPr>
            <a:xfrm>
              <a:off x="182520" y="1968480"/>
              <a:ext cx="14144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33280" y="2019240"/>
              <a:ext cx="1319400" cy="10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Инфраструктура Электронного правительств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------------------------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Минкомсвязь Росси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ectangle 32"/>
          <p:cNvGrpSpPr/>
          <p:nvPr/>
        </p:nvGrpSpPr>
        <p:grpSpPr>
          <a:xfrm>
            <a:off x="3895560" y="1968480"/>
            <a:ext cx="1414800" cy="768240"/>
            <a:chOff x="3895560" y="1968480"/>
            <a:chExt cx="1414800" cy="768240"/>
          </a:xfrm>
        </p:grpSpPr>
        <p:pic>
          <p:nvPicPr>
            <p:cNvPr id="198" name="Rectangle 32" descr=""/>
            <p:cNvPicPr/>
            <p:nvPr/>
          </p:nvPicPr>
          <p:blipFill>
            <a:blip r:embed="rId4"/>
            <a:stretch/>
          </p:blipFill>
          <p:spPr>
            <a:xfrm>
              <a:off x="3895560" y="1968480"/>
              <a:ext cx="14148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948120" y="2019240"/>
              <a:ext cx="131904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Методология начислени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------------------------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Минфин Росси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Rectangle 32"/>
          <p:cNvGrpSpPr/>
          <p:nvPr/>
        </p:nvGrpSpPr>
        <p:grpSpPr>
          <a:xfrm>
            <a:off x="109440" y="4968720"/>
            <a:ext cx="1341360" cy="785880"/>
            <a:chOff x="109440" y="4968720"/>
            <a:chExt cx="1341360" cy="785880"/>
          </a:xfrm>
        </p:grpSpPr>
        <p:pic>
          <p:nvPicPr>
            <p:cNvPr id="201" name="Rectangle 32" descr=""/>
            <p:cNvPicPr/>
            <p:nvPr/>
          </p:nvPicPr>
          <p:blipFill>
            <a:blip r:embed="rId5"/>
            <a:stretch/>
          </p:blipFill>
          <p:spPr>
            <a:xfrm>
              <a:off x="109440" y="4968720"/>
              <a:ext cx="13413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58760" y="5016600"/>
              <a:ext cx="12542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Методологи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платеже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------------------------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Банк Росси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Rectangle 32"/>
          <p:cNvGrpSpPr/>
          <p:nvPr/>
        </p:nvGrpSpPr>
        <p:grpSpPr>
          <a:xfrm>
            <a:off x="3895560" y="4827600"/>
            <a:ext cx="1414800" cy="768240"/>
            <a:chOff x="3895560" y="4827600"/>
            <a:chExt cx="1414800" cy="768240"/>
          </a:xfrm>
        </p:grpSpPr>
        <p:pic>
          <p:nvPicPr>
            <p:cNvPr id="204" name="Rectangle 32" descr=""/>
            <p:cNvPicPr/>
            <p:nvPr/>
          </p:nvPicPr>
          <p:blipFill>
            <a:blip r:embed="rId6"/>
            <a:stretch/>
          </p:blipFill>
          <p:spPr>
            <a:xfrm>
              <a:off x="3895560" y="4827600"/>
              <a:ext cx="14148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946680" y="4875120"/>
              <a:ext cx="13222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Порядок ведени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------------------------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Казначейство Росси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Rectangle 32"/>
          <p:cNvGrpSpPr/>
          <p:nvPr/>
        </p:nvGrpSpPr>
        <p:grpSpPr>
          <a:xfrm>
            <a:off x="3541680" y="5681520"/>
            <a:ext cx="1341360" cy="785880"/>
            <a:chOff x="3541680" y="5681520"/>
            <a:chExt cx="1341360" cy="785880"/>
          </a:xfrm>
        </p:grpSpPr>
        <p:pic>
          <p:nvPicPr>
            <p:cNvPr id="207" name="Rectangle 32" descr=""/>
            <p:cNvPicPr/>
            <p:nvPr/>
          </p:nvPicPr>
          <p:blipFill>
            <a:blip r:embed="rId7"/>
            <a:stretch/>
          </p:blipFill>
          <p:spPr>
            <a:xfrm>
              <a:off x="3541680" y="5681520"/>
              <a:ext cx="13413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591000" y="5734080"/>
              <a:ext cx="12477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8a"/>
                  </a:solidFill>
                  <a:latin typeface="Times New Roman"/>
                  <a:ea typeface="ＭＳ Ｐゴシック"/>
                </a:rPr>
                <a:t>Контрольно-надзорная функци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ая соединительная линия 74"/>
          <p:cNvSpPr/>
          <p:nvPr/>
        </p:nvSpPr>
        <p:spPr>
          <a:xfrm flipH="1" flipV="1">
            <a:off x="2428560" y="5143680"/>
            <a:ext cx="1143000" cy="714240"/>
          </a:xfrm>
          <a:prstGeom prst="line">
            <a:avLst/>
          </a:prstGeom>
          <a:ln w="1908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9"/>
          <p:cNvSpPr/>
          <p:nvPr/>
        </p:nvSpPr>
        <p:spPr>
          <a:xfrm>
            <a:off x="5580000" y="1484280"/>
            <a:ext cx="331308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d2d8a"/>
                </a:solidFill>
                <a:uFillTx/>
                <a:latin typeface="Times New Roman"/>
                <a:ea typeface="Times New Roman"/>
              </a:rPr>
              <a:t>Методология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2d2d8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Times New Roman"/>
              </a:rPr>
              <a:t>единый и доступный перечень платежей, включающий их реквизиты</a:t>
            </a:r>
            <a:r>
              <a:rPr b="1" lang="en-US" sz="1200" spc="-1" strike="noStrike">
                <a:solidFill>
                  <a:srgbClr val="2d2d8a"/>
                </a:solidFill>
                <a:latin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2d2d8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Times New Roman"/>
              </a:rPr>
              <a:t>единые идентификаторы, позволяющие быстро и корректно обеспечить его квитирова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d2d8a"/>
                </a:solidFill>
                <a:uFillTx/>
                <a:latin typeface="Times New Roman"/>
                <a:ea typeface="Times New Roman"/>
              </a:rPr>
              <a:t>Организация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2d2d8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единые правила оформления администраторами доходов первичных документов, являющихся основанием для совершения платежа</a:t>
            </a:r>
            <a:r>
              <a:rPr b="1" lang="en-US" sz="1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2d2d8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Times New Roman"/>
              </a:rPr>
              <a:t>единый платежный документ для плательщ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d2d8a"/>
                </a:solidFill>
                <a:uFillTx/>
                <a:latin typeface="Times New Roman"/>
                <a:ea typeface="Times New Roman"/>
              </a:rPr>
              <a:t>Технология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2d2d8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Times New Roman"/>
              </a:rPr>
              <a:t>единые оптимизированные форматы для организаций, осуществляющих прием платежей</a:t>
            </a:r>
            <a:r>
              <a:rPr b="1" lang="en-US" sz="1200" spc="-1" strike="noStrike">
                <a:solidFill>
                  <a:srgbClr val="2d2d8a"/>
                </a:solidFill>
                <a:latin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2d2d8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Times New Roman"/>
              </a:rPr>
              <a:t>упрощенная процедура регистрации в СМЭВ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2d2d8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Times New Roman"/>
              </a:rPr>
              <a:t>бесперебойная работа инфраструктуры «электронного правительства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d2d8a"/>
                </a:solidFill>
                <a:uFillTx/>
                <a:latin typeface="Times New Roman"/>
                <a:ea typeface="Times New Roman"/>
              </a:rPr>
              <a:t>Контроль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2d2d8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Times New Roman"/>
              </a:rPr>
              <a:t>контроль за представлением информации в ГИС ГМП всеми участника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2" name="Прямая со стрелкой 31"/>
          <p:cNvCxnSpPr/>
          <p:nvPr/>
        </p:nvCxnSpPr>
        <p:spPr>
          <a:xfrm flipH="1">
            <a:off x="8572320" y="3286080"/>
            <a:ext cx="2160" cy="21672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sp>
        <p:nvSpPr>
          <p:cNvPr id="213" name="Прямая соединительная линия 166"/>
          <p:cNvSpPr/>
          <p:nvPr/>
        </p:nvSpPr>
        <p:spPr>
          <a:xfrm>
            <a:off x="4500720" y="5805360"/>
            <a:ext cx="14256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Развитие  Государственной информационной системы о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государственных и муниниципальных платежах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13"/>
          <p:cNvSpPr/>
          <p:nvPr/>
        </p:nvSpPr>
        <p:spPr>
          <a:xfrm>
            <a:off x="5508720" y="3573360"/>
            <a:ext cx="1366920" cy="576360"/>
          </a:xfrm>
          <a:prstGeom prst="roundRect">
            <a:avLst>
              <a:gd name="adj" fmla="val 16667"/>
            </a:avLst>
          </a:prstGeom>
          <a:solidFill>
            <a:srgbClr val="f8fbfc">
              <a:alpha val="95000"/>
            </a:srgbClr>
          </a:solidFill>
          <a:ln w="19080">
            <a:solidFill>
              <a:srgbClr val="f0f8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97a0"/>
                </a:solidFill>
                <a:latin typeface="Times New Roman"/>
              </a:rPr>
              <a:t>ГИС ГМП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15"/>
          <p:cNvSpPr/>
          <p:nvPr/>
        </p:nvSpPr>
        <p:spPr>
          <a:xfrm>
            <a:off x="5435640" y="3860640"/>
            <a:ext cx="1512720" cy="433440"/>
          </a:xfrm>
          <a:prstGeom prst="roundRect">
            <a:avLst>
              <a:gd name="adj" fmla="val 16667"/>
            </a:avLst>
          </a:prstGeom>
          <a:solidFill>
            <a:srgbClr val="f9f2bf">
              <a:alpha val="90000"/>
            </a:srgbClr>
          </a:solidFill>
          <a:ln w="19080">
            <a:solidFill>
              <a:srgbClr val="f8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97a0"/>
                </a:solidFill>
                <a:latin typeface="Times New Roman"/>
              </a:rPr>
              <a:t>Сводный реестр платеже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 стрелкой 8"/>
          <p:cNvCxnSpPr/>
          <p:nvPr/>
        </p:nvCxnSpPr>
        <p:spPr>
          <a:xfrm flipH="1">
            <a:off x="6947640" y="4005000"/>
            <a:ext cx="864360" cy="1080"/>
          </a:xfrm>
          <a:prstGeom prst="straightConnector1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218" name="Прямая со стрелкой 8"/>
          <p:cNvCxnSpPr/>
          <p:nvPr/>
        </p:nvCxnSpPr>
        <p:spPr>
          <a:xfrm flipV="1">
            <a:off x="6948000" y="3212640"/>
            <a:ext cx="361080" cy="540720"/>
          </a:xfrm>
          <a:prstGeom prst="bentConnector2">
            <a:avLst/>
          </a:prstGeom>
          <a:ln w="22320">
            <a:solidFill>
              <a:srgbClr val="558ed5"/>
            </a:solidFill>
            <a:miter/>
            <a:headEnd len="med" type="triangle" w="med"/>
          </a:ln>
        </p:spPr>
      </p:cxnSp>
      <p:sp>
        <p:nvSpPr>
          <p:cNvPr id="219" name="Скругленный прямоугольник 14"/>
          <p:cNvSpPr/>
          <p:nvPr/>
        </p:nvSpPr>
        <p:spPr>
          <a:xfrm>
            <a:off x="7954920" y="3645000"/>
            <a:ext cx="1189080" cy="576000"/>
          </a:xfrm>
          <a:prstGeom prst="roundRect">
            <a:avLst>
              <a:gd name="adj" fmla="val 16667"/>
            </a:avLst>
          </a:prstGeom>
          <a:solidFill>
            <a:srgbClr val="f8fbfc">
              <a:alpha val="95000"/>
            </a:srgbClr>
          </a:solidFill>
          <a:ln w="19080">
            <a:solidFill>
              <a:srgbClr val="f0f8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97a0"/>
                </a:solidFill>
                <a:latin typeface="Times New Roman"/>
              </a:rPr>
              <a:t>Платежный шлюз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4" descr=""/>
          <p:cNvPicPr/>
          <p:nvPr/>
        </p:nvPicPr>
        <p:blipFill>
          <a:blip r:embed="rId1"/>
          <a:stretch/>
        </p:blipFill>
        <p:spPr>
          <a:xfrm>
            <a:off x="4773600" y="4651200"/>
            <a:ext cx="4467240" cy="2303640"/>
          </a:xfrm>
          <a:prstGeom prst="rect">
            <a:avLst/>
          </a:prstGeom>
          <a:ln w="0">
            <a:noFill/>
          </a:ln>
        </p:spPr>
      </p:pic>
      <p:cxnSp>
        <p:nvCxnSpPr>
          <p:cNvPr id="221" name="Прямая со стрелкой 131"/>
          <p:cNvCxnSpPr/>
          <p:nvPr/>
        </p:nvCxnSpPr>
        <p:spPr>
          <a:xfrm>
            <a:off x="4716000" y="4292280"/>
            <a:ext cx="3312360" cy="1080"/>
          </a:xfrm>
          <a:prstGeom prst="straightConnector1">
            <a:avLst/>
          </a:prstGeom>
          <a:ln w="22320">
            <a:solidFill>
              <a:srgbClr val="558ed5"/>
            </a:solidFill>
            <a:miter/>
          </a:ln>
        </p:spPr>
      </p:cxnSp>
      <p:cxnSp>
        <p:nvCxnSpPr>
          <p:cNvPr id="222" name="Прямая со стрелкой 134"/>
          <p:cNvCxnSpPr/>
          <p:nvPr/>
        </p:nvCxnSpPr>
        <p:spPr>
          <a:xfrm>
            <a:off x="4572000" y="3573000"/>
            <a:ext cx="937440" cy="1080"/>
          </a:xfrm>
          <a:prstGeom prst="straightConnector1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223" name="Прямая со стрелкой 136"/>
          <p:cNvCxnSpPr>
            <a:endCxn id="216" idx="1"/>
          </p:cNvCxnSpPr>
          <p:nvPr/>
        </p:nvCxnSpPr>
        <p:spPr>
          <a:xfrm flipH="1" flipV="1" rot="5400000">
            <a:off x="4102560" y="4617360"/>
            <a:ext cx="1872360" cy="793080"/>
          </a:xfrm>
          <a:prstGeom prst="bentConnector2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4595760" y="1292400"/>
            <a:ext cx="4469040" cy="23778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ая соединительная линия 164"/>
          <p:cNvSpPr/>
          <p:nvPr/>
        </p:nvSpPr>
        <p:spPr>
          <a:xfrm>
            <a:off x="4500720" y="5661000"/>
            <a:ext cx="7128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180"/>
          <p:cNvSpPr/>
          <p:nvPr/>
        </p:nvSpPr>
        <p:spPr>
          <a:xfrm>
            <a:off x="4500720" y="5950080"/>
            <a:ext cx="215640" cy="0"/>
          </a:xfrm>
          <a:prstGeom prst="line">
            <a:avLst/>
          </a:prstGeom>
          <a:ln w="22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Прямая со стрелкой 213"/>
          <p:cNvCxnSpPr/>
          <p:nvPr/>
        </p:nvCxnSpPr>
        <p:spPr>
          <a:xfrm>
            <a:off x="6948000" y="3860280"/>
            <a:ext cx="864360" cy="1080"/>
          </a:xfrm>
          <a:prstGeom prst="straightConnector1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228" name="Прямая со стрелкой 229"/>
          <p:cNvCxnSpPr/>
          <p:nvPr/>
        </p:nvCxnSpPr>
        <p:spPr>
          <a:xfrm flipV="1">
            <a:off x="8027640" y="4076280"/>
            <a:ext cx="1080" cy="216720"/>
          </a:xfrm>
          <a:prstGeom prst="straightConnector1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229" name="Прямая соединительная линия 241"/>
          <p:cNvSpPr/>
          <p:nvPr/>
        </p:nvSpPr>
        <p:spPr>
          <a:xfrm>
            <a:off x="4716360" y="4292640"/>
            <a:ext cx="0" cy="1657440"/>
          </a:xfrm>
          <a:prstGeom prst="line">
            <a:avLst/>
          </a:prstGeom>
          <a:ln w="22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58"/>
          <p:cNvSpPr/>
          <p:nvPr/>
        </p:nvSpPr>
        <p:spPr>
          <a:xfrm>
            <a:off x="4572000" y="3789360"/>
            <a:ext cx="0" cy="1871640"/>
          </a:xfrm>
          <a:prstGeom prst="line">
            <a:avLst/>
          </a:prstGeom>
          <a:ln w="22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Прямая со стрелкой 264"/>
          <p:cNvCxnSpPr/>
          <p:nvPr/>
        </p:nvCxnSpPr>
        <p:spPr>
          <a:xfrm flipV="1">
            <a:off x="8572680" y="4073040"/>
            <a:ext cx="2160" cy="286560"/>
          </a:xfrm>
          <a:prstGeom prst="straightConnector1">
            <a:avLst/>
          </a:prstGeom>
          <a:ln w="22320">
            <a:solidFill>
              <a:srgbClr val="e9f4f5"/>
            </a:solidFill>
            <a:miter/>
            <a:tailEnd len="med" type="triangle" w="med"/>
          </a:ln>
        </p:spPr>
      </p:cxnSp>
      <p:pic>
        <p:nvPicPr>
          <p:cNvPr id="232" name="Picture 2" descr=""/>
          <p:cNvPicPr/>
          <p:nvPr/>
        </p:nvPicPr>
        <p:blipFill>
          <a:blip r:embed="rId3"/>
          <a:stretch/>
        </p:blipFill>
        <p:spPr>
          <a:xfrm>
            <a:off x="-23760" y="1359000"/>
            <a:ext cx="4498920" cy="5518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"/>
          <p:cNvPicPr/>
          <p:nvPr/>
        </p:nvPicPr>
        <p:blipFill>
          <a:blip r:embed="rId4"/>
          <a:stretch/>
        </p:blipFill>
        <p:spPr>
          <a:xfrm>
            <a:off x="34920" y="5229360"/>
            <a:ext cx="3241800" cy="1152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1" descr=""/>
          <p:cNvPicPr/>
          <p:nvPr/>
        </p:nvPicPr>
        <p:blipFill>
          <a:blip r:embed="rId5"/>
          <a:stretch/>
        </p:blipFill>
        <p:spPr>
          <a:xfrm>
            <a:off x="250920" y="4941720"/>
            <a:ext cx="4176720" cy="309600"/>
          </a:xfrm>
          <a:prstGeom prst="rect">
            <a:avLst/>
          </a:prstGeom>
          <a:ln w="0">
            <a:noFill/>
          </a:ln>
        </p:spPr>
      </p:pic>
      <p:sp>
        <p:nvSpPr>
          <p:cNvPr id="235" name="Скругленный прямоугольник 26"/>
          <p:cNvSpPr/>
          <p:nvPr/>
        </p:nvSpPr>
        <p:spPr>
          <a:xfrm>
            <a:off x="3276720" y="5516640"/>
            <a:ext cx="1224000" cy="649080"/>
          </a:xfrm>
          <a:prstGeom prst="roundRect">
            <a:avLst>
              <a:gd name="adj" fmla="val 16667"/>
            </a:avLst>
          </a:prstGeom>
          <a:solidFill>
            <a:srgbClr val="f9f2bf">
              <a:alpha val="90000"/>
            </a:srgbClr>
          </a:solidFill>
          <a:ln w="19080">
            <a:solidFill>
              <a:srgbClr val="f8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597a0"/>
                </a:solidFill>
                <a:latin typeface="Times New Roman"/>
              </a:rPr>
              <a:t>Сервисы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597a0"/>
                </a:solidFill>
                <a:latin typeface="Times New Roman"/>
              </a:rPr>
              <a:t>ГИС ГМП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41FD-7D35-4E37-B0A0-483154BD5F60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6:50:26Z</dcterms:created>
  <dc:creator>2409</dc:creator>
  <dc:description/>
  <dc:language>en-US</dc:language>
  <cp:lastModifiedBy>2101</cp:lastModifiedBy>
  <dcterms:modified xsi:type="dcterms:W3CDTF">2013-12-19T13:03:11Z</dcterms:modified>
  <cp:revision>619</cp:revision>
  <dc:subject/>
  <dc:title>Слайд 1</dc:title>
</cp:coreProperties>
</file>