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AE0D-FCB2-4034-9AA5-8CF49B2B6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Федерального казначейства по Ле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FC7A-C24F-4722-B925-8031429097D7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2273-946D-4144-B8D3-FD251A3FAC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10E-A7EA-4484-BA1D-E7B65D65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535-2D69-4669-A859-5A69BF24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A18-A86B-4186-A722-81FBA4DB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3BD-BEA7-49B6-9AB8-A9B44A29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F6DB-4C96-4BDC-A149-AAD4A5B3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98E3-4D7E-40A6-B023-7917705B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9552-266E-4FD3-9CB1-71240F7D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F114-D930-4CAF-93CE-F54B9ED0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B860-4144-40A1-8C54-42EC63BD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5844-8B3C-4E02-97BD-E81525E7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794F-F6FE-446B-A7B5-E75274FB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352-2005-4600-AD39-783CD3D2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3805-20A7-4775-9EC4-A28995BD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FC5E-85B7-4F47-B7F4-BA946CAE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C4E1-8A91-4360-9D4A-6D66B0A2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082B-38B4-4B92-8389-282C6DEC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8631-AA2E-4EC5-911A-5C7D846B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79A-5449-4BEF-A74B-D46FE232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61A-F3CD-4DE4-B251-76D50445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C8C-B6F2-4726-B5DF-57564444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045-61EE-4CD8-A975-85025C82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9860-23CF-4AAA-8B34-750D76EE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A4D-406D-47F5-8EFC-B167CDEC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AB1-BFA2-4D32-9859-B1D5CE3B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C7E8-D894-460E-A287-6D102245F1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56CA-E0AC-4DC6-8071-FB20D4A17D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207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Times New Roman"/>
              </a:rPr>
              <a:t>Основные изменения в правилах указания информации в реквизитах расчетных документов на перечисление платежей в бюджетную систему РФ в связи с отменой Приказа Минфина России от 24.11.2004 г. № 106н и вступлением в действие   </a:t>
            </a:r>
            <a:br>
              <a:rPr sz="2400"/>
            </a:br>
            <a:r>
              <a:rPr b="1" lang="en-US" sz="2400" spc="-1" strike="noStrike">
                <a:solidFill>
                  <a:srgbClr val="a26d18"/>
                </a:solidFill>
                <a:latin typeface="Times New Roman"/>
              </a:rPr>
              <a:t>с 1 января 2014 г. </a:t>
            </a:r>
            <a:br>
              <a:rPr sz="2400"/>
            </a:br>
            <a:r>
              <a:rPr b="1" lang="en-US" sz="2400" spc="-1" strike="noStrike">
                <a:solidFill>
                  <a:srgbClr val="a26d18"/>
                </a:solidFill>
                <a:latin typeface="Times New Roman"/>
              </a:rPr>
              <a:t>Приказа Минфина России от 12.11.2013г. № 107н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981000"/>
            <a:ext cx="8713800" cy="1152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981000"/>
            <a:ext cx="800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риказ Минфина России от 12.11.2013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г.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№ 107н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«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Об утверждении Правил указания информации в реквизитах распоряжений о переводе денежных средств в уплату налогов, сборов и иных платежей в бюджетную систему Российской Федерации»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2637000"/>
            <a:ext cx="1656000" cy="381636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3816360"/>
              <a:gd name="textAreaBottom" fmla="*/ 3735720 h 3816360"/>
            </a:gdLst>
            <a:ahLst/>
            <a:rect l="textAreaLeft" t="textAreaTop" r="textAreaRight" b="textAreaBottom"/>
            <a:pathLst>
              <a:path w="21600" h="49772">
                <a:moveTo>
                  <a:pt x="3600" y="0"/>
                </a:moveTo>
                <a:arcTo wR="3600" hR="3600" stAng="16200000" swAng="-5400000"/>
                <a:lnTo>
                  <a:pt x="0" y="46172"/>
                </a:lnTo>
                <a:arcTo wR="3600" hR="3600" stAng="10800000" swAng="-5400000"/>
                <a:lnTo>
                  <a:pt x="18000" y="49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2637000"/>
            <a:ext cx="1727280" cy="3816360"/>
          </a:xfrm>
          <a:custGeom>
            <a:avLst/>
            <a:gdLst>
              <a:gd name="textAreaLeft" fmla="*/ 84240 w 1727280"/>
              <a:gd name="textAreaRight" fmla="*/ 1643040 w 1727280"/>
              <a:gd name="textAreaTop" fmla="*/ 84240 h 3816360"/>
              <a:gd name="textAreaBottom" fmla="*/ 3732120 h 3816360"/>
            </a:gdLst>
            <a:ahLst/>
            <a:rect l="textAreaLeft" t="textAreaTop" r="textAreaRight" b="textAreaBottom"/>
            <a:pathLst>
              <a:path w="21600" h="47719">
                <a:moveTo>
                  <a:pt x="3600" y="0"/>
                </a:moveTo>
                <a:arcTo wR="3600" hR="3600" stAng="16200000" swAng="-5400000"/>
                <a:lnTo>
                  <a:pt x="0" y="44119"/>
                </a:lnTo>
                <a:arcTo wR="3600" hR="3600" stAng="10800000" swAng="-5400000"/>
                <a:lnTo>
                  <a:pt x="18000" y="477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2637000"/>
            <a:ext cx="1800360" cy="381636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3816360"/>
              <a:gd name="textAreaBottom" fmla="*/ 3728520 h 3816360"/>
            </a:gdLst>
            <a:ahLst/>
            <a:rect l="textAreaLeft" t="textAreaTop" r="textAreaRight" b="textAreaBottom"/>
            <a:pathLst>
              <a:path w="21600" h="45782">
                <a:moveTo>
                  <a:pt x="3600" y="0"/>
                </a:moveTo>
                <a:arcTo wR="3600" hR="3600" stAng="16200000" swAng="-5400000"/>
                <a:lnTo>
                  <a:pt x="0" y="42182"/>
                </a:lnTo>
                <a:arcTo wR="3600" hR="3600" stAng="10800000" swAng="-5400000"/>
                <a:lnTo>
                  <a:pt x="18000" y="45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ff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2637000"/>
            <a:ext cx="1511280" cy="3816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3816360"/>
              <a:gd name="textAreaBottom" fmla="*/ 3742920 h 3816360"/>
            </a:gdLst>
            <a:ahLst/>
            <a:rect l="textAreaLeft" t="textAreaTop" r="textAreaRight" b="textAreaBottom"/>
            <a:pathLst>
              <a:path w="21600" h="54538">
                <a:moveTo>
                  <a:pt x="3600" y="0"/>
                </a:moveTo>
                <a:arcTo wR="3600" hR="3600" stAng="16200000" swAng="-5400000"/>
                <a:lnTo>
                  <a:pt x="0" y="50938"/>
                </a:lnTo>
                <a:arcTo wR="3600" hR="3600" stAng="10800000" swAng="-5400000"/>
                <a:lnTo>
                  <a:pt x="18000" y="54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1a8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4360" y="2637000"/>
            <a:ext cx="1800360" cy="381636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3816360"/>
              <a:gd name="textAreaBottom" fmla="*/ 3728520 h 3816360"/>
            </a:gdLst>
            <a:ahLst/>
            <a:rect l="textAreaLeft" t="textAreaTop" r="textAreaRight" b="textAreaBottom"/>
            <a:pathLst>
              <a:path w="21600" h="45782">
                <a:moveTo>
                  <a:pt x="3600" y="0"/>
                </a:moveTo>
                <a:arcTo wR="3600" hR="3600" stAng="16200000" swAng="-5400000"/>
                <a:lnTo>
                  <a:pt x="0" y="42182"/>
                </a:lnTo>
                <a:arcTo wR="3600" hR="3600" stAng="10800000" swAng="-5400000"/>
                <a:lnTo>
                  <a:pt x="18000" y="45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3429000"/>
            <a:ext cx="1584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авила указания информации идентифицирующей плательщика и получателя сред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риложение 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3573360"/>
            <a:ext cx="1584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ила, идентифицирующие платеж, администрируемый налоговыми органами (Приложение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3500280"/>
            <a:ext cx="1655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ила, идентифицирующие платеж, администрируемый таможенным органами (Приложение 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2781360"/>
            <a:ext cx="1584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ила идентифицирующие платеж в бюджетную систему (за исключением платежей, администрируемых налоговыми и таможенными органами)  (Приложение 4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2708280"/>
            <a:ext cx="1728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ав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казания информации, идентифицирующей лицо или орган, составивший распоряжение о переводе денежных средств в уплату платежей в бюджетную систему Российской Федерации (приложение 5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2133720"/>
            <a:ext cx="71280" cy="503280"/>
          </a:xfrm>
          <a:prstGeom prst="downArrow">
            <a:avLst>
              <a:gd name="adj1" fmla="val 50000"/>
              <a:gd name="adj2" fmla="val 176515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213372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2133720"/>
            <a:ext cx="72720" cy="503280"/>
          </a:xfrm>
          <a:prstGeom prst="downArrow">
            <a:avLst>
              <a:gd name="adj1" fmla="val 50000"/>
              <a:gd name="adj2" fmla="val 17302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00720" y="213372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56720" y="2133720"/>
            <a:ext cx="72720" cy="503280"/>
          </a:xfrm>
          <a:prstGeom prst="downArrow">
            <a:avLst>
              <a:gd name="adj1" fmla="val 50000"/>
              <a:gd name="adj2" fmla="val 17302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Группа 19"/>
          <p:cNvGrpSpPr/>
          <p:nvPr/>
        </p:nvGrpSpPr>
        <p:grpSpPr>
          <a:xfrm>
            <a:off x="179280" y="1268280"/>
            <a:ext cx="5148360" cy="5400720"/>
            <a:chOff x="179280" y="1268280"/>
            <a:chExt cx="5148360" cy="5400720"/>
          </a:xfrm>
        </p:grpSpPr>
        <p:pic>
          <p:nvPicPr>
            <p:cNvPr id="149" name="Содержимое 23" descr=""/>
            <p:cNvPicPr/>
            <p:nvPr/>
          </p:nvPicPr>
          <p:blipFill>
            <a:blip r:embed="rId1"/>
            <a:stretch/>
          </p:blipFill>
          <p:spPr>
            <a:xfrm>
              <a:off x="179280" y="1268280"/>
              <a:ext cx="5148360" cy="5400720"/>
            </a:xfrm>
            <a:prstGeom prst="rect">
              <a:avLst/>
            </a:prstGeom>
            <a:ln w="12600">
              <a:solidFill>
                <a:srgbClr val="6699ff"/>
              </a:solidFill>
              <a:miter/>
            </a:ln>
          </p:spPr>
        </p:pic>
        <p:sp>
          <p:nvSpPr>
            <p:cNvPr id="150" name="Скругленная прямоугольная выноска 9"/>
            <p:cNvSpPr/>
            <p:nvPr/>
          </p:nvSpPr>
          <p:spPr>
            <a:xfrm>
              <a:off x="3492360" y="1814040"/>
              <a:ext cx="1446120" cy="397440"/>
            </a:xfrm>
            <a:prstGeom prst="wedgeRoundRectCallout">
              <a:avLst>
                <a:gd name="adj1" fmla="val 39194"/>
                <a:gd name="adj2" fmla="val -81856"/>
                <a:gd name="adj3" fmla="val 16667"/>
              </a:avLst>
            </a:prstGeom>
            <a:solidFill>
              <a:srgbClr val="ffffcc"/>
            </a:solidFill>
            <a:ln w="12600">
              <a:solidFill>
                <a:srgbClr val="87b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С 01.01.2014 г. изменен состав значений реквизита 10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Скругленная прямоугольная выноска 10"/>
            <p:cNvSpPr/>
            <p:nvPr/>
          </p:nvSpPr>
          <p:spPr>
            <a:xfrm>
              <a:off x="1974600" y="5309280"/>
              <a:ext cx="1168200" cy="872640"/>
            </a:xfrm>
            <a:prstGeom prst="wedgeRoundRectCallout">
              <a:avLst>
                <a:gd name="adj1" fmla="val 65736"/>
                <a:gd name="adj2" fmla="val -133583"/>
                <a:gd name="adj3" fmla="val 16667"/>
              </a:avLst>
            </a:prstGeom>
            <a:solidFill>
              <a:srgbClr val="ffffcc"/>
            </a:solidFill>
            <a:ln w="12600">
              <a:solidFill>
                <a:srgbClr val="87b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С 31.03.2014 г. в реквизите КОД указывается значение уникального идентификатора начисления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Скругленная прямоугольная выноска 11"/>
            <p:cNvSpPr/>
            <p:nvPr/>
          </p:nvSpPr>
          <p:spPr>
            <a:xfrm>
              <a:off x="3378240" y="5626080"/>
              <a:ext cx="1844640" cy="845640"/>
            </a:xfrm>
            <a:prstGeom prst="wedgeRoundRectCallout">
              <a:avLst>
                <a:gd name="adj1" fmla="val -49435"/>
                <a:gd name="adj2" fmla="val -120541"/>
                <a:gd name="adj3" fmla="val 16667"/>
              </a:avLst>
            </a:prstGeom>
            <a:solidFill>
              <a:srgbClr val="ffffcc"/>
            </a:solidFill>
            <a:ln w="12600">
              <a:solidFill>
                <a:srgbClr val="87b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С 31.03.2014 г. в реквизите 108 для плательщиков</a:t>
              </a:r>
              <a:r>
                <a:rPr b="1" lang="en-US" sz="7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– физических лиц может указываться значение идентификатора плательщика, с 01.04.21014 г. указывается обязательно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Скругленная прямоугольная выноска 12"/>
            <p:cNvSpPr/>
            <p:nvPr/>
          </p:nvSpPr>
          <p:spPr>
            <a:xfrm>
              <a:off x="258480" y="4196880"/>
              <a:ext cx="1838160" cy="476640"/>
            </a:xfrm>
            <a:prstGeom prst="wedgeRoundRectCallout">
              <a:avLst>
                <a:gd name="adj1" fmla="val 50194"/>
                <a:gd name="adj2" fmla="val 105629"/>
                <a:gd name="adj3" fmla="val 16667"/>
              </a:avLst>
            </a:prstGeom>
            <a:solidFill>
              <a:srgbClr val="ffffcc"/>
            </a:solidFill>
            <a:ln w="12600">
              <a:solidFill>
                <a:srgbClr val="87b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С 01.01.2014 г.  в реквизите 10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указывается код ОКТМО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Скругленная прямоугольная выноска 13"/>
            <p:cNvSpPr/>
            <p:nvPr/>
          </p:nvSpPr>
          <p:spPr>
            <a:xfrm>
              <a:off x="226800" y="5648040"/>
              <a:ext cx="1512720" cy="744840"/>
            </a:xfrm>
            <a:prstGeom prst="wedgeRoundRectCallout">
              <a:avLst>
                <a:gd name="adj1" fmla="val -40837"/>
                <a:gd name="adj2" fmla="val -109166"/>
                <a:gd name="adj3" fmla="val 16667"/>
              </a:avLst>
            </a:prstGeom>
            <a:solidFill>
              <a:srgbClr val="ffffcc"/>
            </a:solidFill>
            <a:ln w="12600">
              <a:solidFill>
                <a:srgbClr val="87b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До 31.03.2014 г. в реквизите  Назначение платежа может указываться значение уникального идентификатора начисления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FB4B-F4B1-41EB-8942-534139AFA609}" type="slidenum">
              <a:rPr b="1" lang="en-US" sz="1200" spc="-1" strike="noStrike">
                <a:solidFill>
                  <a:srgbClr val="a26d18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5000760" y="1785960"/>
            <a:ext cx="3929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25092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ижний колонтитул 3"/>
          <p:cNvSpPr/>
          <p:nvPr/>
        </p:nvSpPr>
        <p:spPr>
          <a:xfrm>
            <a:off x="0" y="62064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Правила указания информации в распоряжениях о переводе денежных средств в уплату платежей в бюджетную систему Российской Федерации с 01.01.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5364000" y="1268280"/>
            <a:ext cx="37800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e69"/>
                </a:solidFill>
                <a:latin typeface="Calibri"/>
              </a:rPr>
              <a:t>101</a:t>
            </a:r>
            <a:r>
              <a:rPr b="0" lang="en-US" sz="1200" spc="-1" strike="noStrike">
                <a:solidFill>
                  <a:srgbClr val="002e69"/>
                </a:solidFill>
                <a:latin typeface="Calibri"/>
              </a:rPr>
              <a:t> – 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Статус лица или органа, составившего распоряж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              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о переводе денежных средст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e69"/>
                </a:solidFill>
                <a:latin typeface="Calibri"/>
              </a:rPr>
              <a:t>104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2e69"/>
                </a:solidFill>
                <a:latin typeface="ＭＳ Ｐゴシック"/>
              </a:rPr>
              <a:t>–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  Код бюджетной классификации (КБК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e69"/>
                </a:solidFill>
                <a:latin typeface="Calibri"/>
              </a:rPr>
              <a:t>105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2e69"/>
                </a:solidFill>
                <a:latin typeface="ＭＳ Ｐゴシック"/>
              </a:rPr>
              <a:t>–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  Общероссийский классификатор территор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               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муниципальных образований (ОКТМО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e69"/>
                </a:solidFill>
                <a:latin typeface="Calibri"/>
              </a:rPr>
              <a:t>108</a:t>
            </a:r>
            <a:r>
              <a:rPr b="1" lang="en-US" sz="1000" spc="-1" strike="noStrike">
                <a:solidFill>
                  <a:srgbClr val="002e69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2e69"/>
                </a:solidFill>
                <a:latin typeface="ＭＳ Ｐゴシック"/>
              </a:rPr>
              <a:t>–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  Идентификатор сведений о физическом лиц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«01» – паспорт гражданина РФ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«02» – свидетельство органов ЗАГС о рождении гражданина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«03» – паспорт моряка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«04» – удостоверение личности военнослужащег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«05» – военный билет военнослужащег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«06» </a:t>
            </a:r>
            <a:r>
              <a:rPr b="0" lang="en-US" sz="1000" spc="-1" strike="noStrike">
                <a:solidFill>
                  <a:srgbClr val="002e69"/>
                </a:solidFill>
                <a:latin typeface="ＭＳ Ｐゴシック"/>
              </a:rPr>
              <a:t>–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 временное удостоверение личности гражданина РФ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«07» – справка об освобождении из мест лишения свобод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«08» – паспорт иностранного гражданина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«09» – вид на жительств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«10» – разрешение на временное проживание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«11» – удостоверение беженца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«12» – миграционная карта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«13» – паспорт гражданина СССР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«14» – СНИЛС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«22» – водительское удостоверение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«24» – свидетельство о регистрации транспортного средств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Для разделения двузначного значения типа идентификатора сведений о физическом лице и идентификатора сведений о физическом лице используется  знак «;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e69"/>
                </a:solidFill>
                <a:latin typeface="Calibri"/>
              </a:rPr>
              <a:t>КОД </a:t>
            </a:r>
            <a:r>
              <a:rPr b="1" lang="en-US" sz="1000" spc="-1" strike="noStrike">
                <a:solidFill>
                  <a:srgbClr val="002e69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–  Уникальный идентификатор начисления (УИН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e69"/>
                </a:solidFill>
                <a:latin typeface="Calibri"/>
              </a:rPr>
              <a:t>НАЗНАЧЕНИЕ ПЛАТЕЖА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2e69"/>
                </a:solidFill>
                <a:latin typeface="ＭＳ Ｐゴシック"/>
              </a:rPr>
              <a:t>–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</a:rPr>
              <a:t> информация, установленная Положением Банка России № 383-П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40000" y="836640"/>
            <a:ext cx="4608360" cy="684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3300"/>
                </a:solidFill>
                <a:uFillTx/>
                <a:latin typeface="Times New Roman"/>
              </a:rPr>
              <a:t>нормативная база О К Т М О</a:t>
            </a:r>
            <a:br>
              <a:rPr sz="2400"/>
            </a:b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87280" y="1700280"/>
            <a:ext cx="6697800" cy="1152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ФЕДЕРАЛЬНЫЙ  ЗАКОН от 6 октября 2003 г № 131-ФЗ</a:t>
            </a:r>
            <a:br>
              <a:rPr sz="1600"/>
            </a:b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«Об общих принципах организации местного</a:t>
            </a:r>
            <a:br>
              <a:rPr sz="1600"/>
            </a:b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самоуправления в Российской Федерации»,</a:t>
            </a:r>
            <a:br>
              <a:rPr sz="1600"/>
            </a:b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законы субъектов РФ по муниципаль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территориальному делению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3284640"/>
            <a:ext cx="8352000" cy="13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26d18"/>
                </a:solidFill>
                <a:latin typeface="Times New Roman"/>
              </a:rPr>
              <a:t>РАСПОРЯЖЕНИЕ</a:t>
            </a:r>
            <a:br>
              <a:rPr sz="1800"/>
            </a:br>
            <a:r>
              <a:rPr b="1" lang="ru-RU" sz="18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П</a:t>
            </a:r>
            <a:r>
              <a:rPr b="1" lang="ru-RU" sz="1800" spc="-1" strike="noStrike">
                <a:solidFill>
                  <a:srgbClr val="a26d18"/>
                </a:solidFill>
                <a:latin typeface="Times New Roman"/>
              </a:rPr>
              <a:t>равительства Российской Федерации </a:t>
            </a:r>
            <a:br>
              <a:rPr sz="1800"/>
            </a:br>
            <a:r>
              <a:rPr b="1" lang="ru-RU" sz="1800" spc="-1" strike="noStrike">
                <a:solidFill>
                  <a:srgbClr val="a26d18"/>
                </a:solidFill>
                <a:latin typeface="Times New Roman"/>
              </a:rPr>
              <a:t>от 24 августа 2005 г. </a:t>
            </a:r>
            <a:r>
              <a:rPr b="1" lang="ru-RU" sz="18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№ </a:t>
            </a:r>
            <a:r>
              <a:rPr b="1" lang="ru-RU" sz="1800" spc="-1" strike="noStrike">
                <a:solidFill>
                  <a:srgbClr val="a26d18"/>
                </a:solidFill>
                <a:latin typeface="Times New Roman"/>
              </a:rPr>
              <a:t>1301-р</a:t>
            </a:r>
            <a:br>
              <a:rPr sz="1800"/>
            </a:br>
            <a:r>
              <a:rPr b="1" lang="ru-RU" sz="1800" spc="-1" strike="noStrike">
                <a:solidFill>
                  <a:srgbClr val="a26d18"/>
                </a:solidFill>
                <a:latin typeface="Times New Roman"/>
              </a:rPr>
              <a:t>о разработке и </a:t>
            </a:r>
            <a:r>
              <a:rPr b="1" lang="ru-RU" sz="1800" spc="-1" strike="noStrike">
                <a:solidFill>
                  <a:srgbClr val="a26d18"/>
                </a:solidFill>
                <a:latin typeface="Arial"/>
              </a:rPr>
              <a:t>вв</a:t>
            </a:r>
            <a:r>
              <a:rPr b="1" lang="ru-RU" sz="1800" spc="-1" strike="noStrike">
                <a:solidFill>
                  <a:srgbClr val="a26d18"/>
                </a:solidFill>
                <a:latin typeface="Arial"/>
                <a:ea typeface="Times New Roman"/>
              </a:rPr>
              <a:t>едении в действие</a:t>
            </a:r>
            <a:r>
              <a:rPr b="1" lang="ru-RU" sz="18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 О</a:t>
            </a:r>
            <a:r>
              <a:rPr b="1" lang="ru-RU" sz="1800" spc="-1" strike="noStrike">
                <a:solidFill>
                  <a:srgbClr val="a26d18"/>
                </a:solidFill>
                <a:latin typeface="Times New Roman"/>
              </a:rPr>
              <a:t>бщероссий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26d18"/>
                </a:solidFill>
                <a:latin typeface="Times New Roman"/>
              </a:rPr>
              <a:t>классификатора территорий 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5013360"/>
            <a:ext cx="7848360" cy="1224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Приказ </a:t>
            </a: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Ростехрегулирования </a:t>
            </a:r>
            <a:r>
              <a:rPr b="1" lang="ru-RU" sz="16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от </a:t>
            </a: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14</a:t>
            </a:r>
            <a:r>
              <a:rPr b="1" lang="ru-RU" sz="16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12</a:t>
            </a:r>
            <a:r>
              <a:rPr b="1" lang="ru-RU" sz="16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.200</a:t>
            </a: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 г. № </a:t>
            </a: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310-ст</a:t>
            </a:r>
            <a:br>
              <a:rPr sz="1600"/>
            </a:b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«</a:t>
            </a:r>
            <a:r>
              <a:rPr b="1" lang="ru-RU" sz="16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О </a:t>
            </a: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принятии и введении в действие</a:t>
            </a:r>
            <a:r>
              <a:rPr b="1" lang="ru-RU" sz="16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 Общероссий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классификатора </a:t>
            </a: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территорий муниципальных образований</a:t>
            </a:r>
            <a:r>
              <a:rPr b="1" lang="ru-RU" sz="16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»</a:t>
            </a:r>
            <a:r>
              <a:rPr b="0" lang="ru-RU" sz="22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285264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4653000"/>
            <a:ext cx="4334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ПЕРЕХОД С ОКАТО НА ОКТМО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826920" y="472428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ВНЕСЕНИЕ ИЗМЕНЕНИЙ В НОРМАТИВНЫЕ ПРАВОВЫЕ А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4572000" y="1484280"/>
            <a:ext cx="0" cy="2232000"/>
          </a:xfrm>
          <a:prstGeom prst="line">
            <a:avLst/>
          </a:prstGeom>
          <a:ln w="255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 rot="16200000">
            <a:off x="4552920" y="63720"/>
            <a:ext cx="325440" cy="8208720"/>
          </a:xfrm>
          <a:custGeom>
            <a:avLst/>
            <a:gdLst>
              <a:gd name="textAreaLeft" fmla="*/ 208080 w 325440"/>
              <a:gd name="textAreaRight" fmla="*/ 325800 w 325440"/>
              <a:gd name="textAreaTop" fmla="*/ 217800 h 8208720"/>
              <a:gd name="textAreaBottom" fmla="*/ 7990920 h 82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17"/>
                  <a:pt x="10800" y="1833"/>
                </a:cubicBezTo>
                <a:lnTo>
                  <a:pt x="10800" y="8676"/>
                </a:lnTo>
                <a:cubicBezTo>
                  <a:pt x="10800" y="9593"/>
                  <a:pt x="5400" y="10509"/>
                  <a:pt x="0" y="10509"/>
                </a:cubicBezTo>
                <a:cubicBezTo>
                  <a:pt x="5400" y="10509"/>
                  <a:pt x="10800" y="11426"/>
                  <a:pt x="10800" y="12342"/>
                </a:cubicBezTo>
                <a:lnTo>
                  <a:pt x="10800" y="19767"/>
                </a:lnTo>
                <a:cubicBezTo>
                  <a:pt x="10800" y="20684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1042920" y="1844640"/>
            <a:ext cx="2089080" cy="916920"/>
          </a:xfrm>
          <a:prstGeom prst="rect">
            <a:avLst/>
          </a:prstGeom>
          <a:noFill/>
          <a:ln w="28440">
            <a:solidFill>
              <a:srgbClr val="99cc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ОКА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ХХ ХХХ ХХХ ХХ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826920" y="126828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До 1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января 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/>
          <p:cNvSpPr/>
          <p:nvPr/>
        </p:nvSpPr>
        <p:spPr>
          <a:xfrm rot="16200000">
            <a:off x="1907280" y="1916280"/>
            <a:ext cx="360360" cy="1943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8"/>
                </a:lnTo>
                <a:cubicBezTo>
                  <a:pt x="10800" y="10058"/>
                  <a:pt x="5400" y="10958"/>
                  <a:pt x="0" y="10958"/>
                </a:cubicBezTo>
                <a:cubicBezTo>
                  <a:pt x="5400" y="10958"/>
                  <a:pt x="10800" y="11858"/>
                  <a:pt x="10800" y="1275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971640" y="3068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 знаков кода ОКА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5580000" y="1844640"/>
            <a:ext cx="2087640" cy="916920"/>
          </a:xfrm>
          <a:prstGeom prst="rect">
            <a:avLst/>
          </a:prstGeom>
          <a:noFill/>
          <a:ln w="31680">
            <a:solidFill>
              <a:srgbClr val="00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ОКТ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ХХ ХХХ ХХХ </a:t>
            </a:r>
            <a:r>
              <a:rPr b="1" lang="en-US" sz="1800" spc="-1" strike="noStrike">
                <a:solidFill>
                  <a:srgbClr val="6699ff"/>
                </a:solidFill>
                <a:latin typeface="Times New Roman"/>
              </a:rPr>
              <a:t>ХХ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 rot="16200000">
            <a:off x="6445080" y="1987200"/>
            <a:ext cx="287280" cy="172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5364000" y="12682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После 1 января 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5651640" y="3141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или 11 знаков кода ОКТ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250920" y="5445000"/>
            <a:ext cx="42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ОКАТО – Общероссийский классификатор административно-территори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4859280" y="5445000"/>
            <a:ext cx="42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ОКТМО – Общероссийский классификатор территорий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26d18"/>
                </a:solidFill>
                <a:latin typeface="Times New Roman"/>
              </a:rPr>
              <a:t>Структура кода ОКТМО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04920" y="1557000"/>
            <a:ext cx="8588160" cy="507204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05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          II           III</a:t>
            </a:r>
            <a:r>
              <a:rPr b="0" lang="en-US" sz="2400" spc="-1" strike="noStrike">
                <a:solidFill>
                  <a:srgbClr val="ffd05b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d05b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05b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ХХ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ХХХ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ХХХ</a:t>
            </a:r>
            <a:r>
              <a:rPr b="0" lang="ru-RU" sz="3200" spc="-1" strike="noStrike">
                <a:solidFill>
                  <a:srgbClr val="fee1a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ccff"/>
                </a:solidFill>
                <a:latin typeface="Times New Roman"/>
              </a:rPr>
              <a:t>ХХ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05b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d05b"/>
                </a:solidFill>
                <a:latin typeface="Times New Roman"/>
              </a:rPr>
              <a:t>-----------------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d05b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d05b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ffd05b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d05b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d05b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I 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  муниципальные образования субъектов</a:t>
            </a:r>
            <a:br>
              <a:rPr sz="2200"/>
            </a:b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       Российской Федерации (2 знака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------------------------------------------------------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II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  внутригородские территории городов</a:t>
            </a:r>
            <a:br>
              <a:rPr sz="2200"/>
            </a:b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      федерального значения, муниципальные</a:t>
            </a:r>
            <a:br>
              <a:rPr sz="2200"/>
            </a:b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      районы, городские округа (5 знаков)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----------------------------------------------------------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III 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городские и сельские поселения (8 знаков)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d05b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d05b"/>
                </a:solidFill>
                <a:latin typeface="Times New Roman"/>
              </a:rPr>
              <a:t>----------------------------------------------------------</a:t>
            </a:r>
            <a:r>
              <a:rPr b="0" lang="en-US" sz="2200" spc="-1" strike="noStrike">
                <a:solidFill>
                  <a:srgbClr val="ffd05b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d05b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66ccff"/>
                </a:solidFill>
                <a:latin typeface="Times New Roman"/>
              </a:rPr>
              <a:t>IV </a:t>
            </a:r>
            <a:r>
              <a:rPr b="0" lang="ru-RU" sz="2200" spc="-1" strike="noStrike">
                <a:solidFill>
                  <a:srgbClr val="66ccff"/>
                </a:solidFill>
                <a:latin typeface="Times New Roman"/>
              </a:rPr>
              <a:t>сельские населенные пункты (11 знаков)</a:t>
            </a:r>
            <a:r>
              <a:rPr b="0" lang="en-US" sz="2200" spc="-1" strike="noStrike">
                <a:solidFill>
                  <a:srgbClr val="ffd05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ccff"/>
                </a:solidFill>
                <a:latin typeface="Times New Roman"/>
              </a:rPr>
              <a:t>–</a:t>
            </a:r>
            <a:br>
              <a:rPr sz="2200"/>
            </a:br>
            <a:r>
              <a:rPr b="0" lang="ru-RU" sz="2200" spc="-1" strike="noStrike">
                <a:solidFill>
                  <a:srgbClr val="66ccff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66ccff"/>
                </a:solidFill>
                <a:latin typeface="Times New Roman"/>
              </a:rPr>
              <a:t>в новой версии ОКТМ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05b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d05b"/>
                </a:solidFill>
                <a:latin typeface="Times New Roman"/>
              </a:rPr>
              <a:t>----------------------------------------------------</a:t>
            </a:r>
            <a:r>
              <a:rPr b="0" lang="en-US" sz="1800" spc="-1" strike="noStrike">
                <a:solidFill>
                  <a:srgbClr val="ffd05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d05b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d05b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d05b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d05b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d05b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d05b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fee1a8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fee1a8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26d18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a26d18"/>
                </a:solidFill>
                <a:latin typeface="Times New Roman"/>
              </a:rPr>
              <a:t>               </a:t>
            </a:r>
            <a:br>
              <a:rPr sz="2400"/>
            </a:br>
            <a:r>
              <a:rPr b="1" i="1" lang="en-US" sz="2400" spc="-1" strike="noStrike">
                <a:solidFill>
                  <a:srgbClr val="a26d18"/>
                </a:solidFill>
                <a:latin typeface="Times New Roman"/>
              </a:rPr>
              <a:t>Пример из ОКТМО:</a:t>
            </a:r>
            <a:br>
              <a:rPr sz="2400"/>
            </a:b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79280" y="1557360"/>
            <a:ext cx="8785440" cy="496728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Муниципальные образования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Ленинградской области                                     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--------------------------------------------------------------------------------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Бокситогорский муниципальный район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Ленинградской области                                     41 6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--------------------------------------------------------------------------------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Аниимовское сельское по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Бокситогорского муниципального рай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Ленинградской оласти                                        41 603 408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--------------------------------------------------------------------------------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еленные пункты, входящие в это сельское посел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в новой версии ОКТМ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d05b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66ccff"/>
                </a:solidFill>
                <a:latin typeface="Times New Roman"/>
              </a:rPr>
              <a:t>деревня Большой Двор                                                      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41 603 408</a:t>
            </a:r>
            <a:r>
              <a:rPr b="0" lang="ru-RU" sz="2000" spc="-1" strike="noStrike">
                <a:solidFill>
                  <a:srgbClr val="66ccff"/>
                </a:solidFill>
                <a:latin typeface="Times New Roman"/>
              </a:rPr>
              <a:t> 106</a:t>
            </a:r>
            <a:r>
              <a:rPr b="0" lang="en-US" sz="2000" spc="-1" strike="noStrike">
                <a:solidFill>
                  <a:srgbClr val="66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cc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c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c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d05b"/>
                </a:solidFill>
                <a:latin typeface="Times New Roman"/>
              </a:rPr>
              <a:t>	</a:t>
            </a:r>
            <a:r>
              <a:rPr b="0" lang="ru-RU" sz="500" spc="-1" strike="noStrike">
                <a:solidFill>
                  <a:srgbClr val="ffd05b"/>
                </a:solidFill>
                <a:latin typeface="Times New Roman"/>
              </a:rPr>
              <a:t>	</a:t>
            </a:r>
            <a:r>
              <a:rPr b="0" lang="ru-RU" sz="500" spc="-1" strike="noStrike">
                <a:solidFill>
                  <a:srgbClr val="ffd05b"/>
                </a:solidFill>
                <a:latin typeface="Times New Roman"/>
              </a:rPr>
              <a:t>	</a:t>
            </a:r>
            <a:r>
              <a:rPr b="0" lang="ru-RU" sz="500" spc="-1" strike="noStrike">
                <a:solidFill>
                  <a:srgbClr val="ffd05b"/>
                </a:solidFill>
                <a:latin typeface="Times New Roman"/>
              </a:rPr>
              <a:t>         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d05b"/>
                </a:solidFill>
                <a:latin typeface="Times New Roman"/>
              </a:rPr>
              <a:t>	</a:t>
            </a:r>
            <a:r>
              <a:rPr b="0" lang="ru-RU" sz="500" spc="-1" strike="noStrike">
                <a:solidFill>
                  <a:srgbClr val="ffd05b"/>
                </a:solidFill>
                <a:latin typeface="Times New Roman"/>
              </a:rPr>
              <a:t>	</a:t>
            </a:r>
            <a:r>
              <a:rPr b="0" lang="ru-RU" sz="400" spc="-1" strike="noStrike">
                <a:solidFill>
                  <a:srgbClr val="fee1a8"/>
                </a:solidFill>
                <a:latin typeface="Times New Roman"/>
              </a:rPr>
              <a:t>	</a:t>
            </a:r>
            <a:r>
              <a:rPr b="0" lang="ru-RU" sz="400" spc="-1" strike="noStrike">
                <a:solidFill>
                  <a:srgbClr val="fee1a8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4:24:05Z</dcterms:created>
  <dc:creator>Таня</dc:creator>
  <dc:description/>
  <dc:language>en-US</dc:language>
  <cp:lastModifiedBy>2101</cp:lastModifiedBy>
  <dcterms:modified xsi:type="dcterms:W3CDTF">2013-12-19T13:07:25Z</dcterms:modified>
  <cp:revision>43</cp:revision>
  <dc:subject/>
  <dc:title>ИТОГИ РАБОТЫ УФК ПО ЛЕНИНГРАДСКОЙ ОБЛАСТИ ПО ОСУЩЕСТВЛЕНИЮ УЧЕТА И РАСПРЕДЕЛЕНИЯ ПОСТУПЛЕНИЙ МЕЖДУ БЮДЖЕТАМИ БЮДЖЕТНОЙ СИСТЕМЫ РФ, ВЗАИМОДЕЙСТВИЯ С АДМИНИСТРАТОРАМИ ДОХОДОВ БЮДЖЕТОВ ВСЕХ УРОВНЕЙ, ОТКРЫТИЮ ЛИЦВЫХ СЧЕТОВ АДМИНИСТРАТОРОВ ДОХОДОВ БЮДЖЕТОВ В 2010 ГОДУ</dc:title>
</cp:coreProperties>
</file>